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B5474-3DFB-4A5C-95F8-AE42F8799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FC11-85D5-4293-BDA1-D29977F1E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F1AC1-3E28-4B50-8A68-3E948125F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312B4-D1BE-4DED-9DEF-95D2DF28A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81F79-90FF-4070-88F2-1FF7F7C30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18A9B-7A65-4FE8-A787-92FCEB29B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A6142-909E-41D4-84A0-1E9CEF946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7717A-D6B5-48B2-93FF-66C5AE65D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B749E-B48B-48D0-9899-7AE2B65D1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3B6F1-E71F-41F5-BE10-84AC33C0B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0A78-62B6-4506-8E18-DF0B2B81C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DBBC2-77F1-402B-9E9E-78E454429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B3C47-A2AE-40CE-BBDD-1F406AC03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22A0D-1C5E-43C8-BABE-3FD3A5ECD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5ADED-FBD1-44DB-AF0A-C4742BB01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E912C-C1B7-4C63-802B-D6B2C80F3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1A32E-E5C7-4B85-AC3B-B62F67390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BB74F-722F-4B7C-A737-236C40AA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53345-DE3E-4AB7-92DB-76182AFA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366A-904C-4866-A7A4-F973FA2C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8C1E-5FB1-4048-BA1D-20530633B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B8447-DC51-46C2-9D7A-5860A17DC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1C3D-50BB-47D2-9255-3FB0ECD5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5EB7E-6422-463F-A281-A461C4E6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763640" y="5950080"/>
            <a:ext cx="5905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rso di Formazione “Integrazione degli alunni disabili”</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5B91-1FA2-4DF6-88B4-66685D98527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1834920" y="5950080"/>
            <a:ext cx="5616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rso di Formazione “Integrazione degli alunni disabili”</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0499-7C94-4728-8E1D-E26154D1C48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giovannidelrio1@gmail.com" TargetMode="External"/><Relationship Id="rId2" Type="http://schemas.openxmlformats.org/officeDocument/2006/relationships/hyperlink" Target="mailto:sindromedidown@tin.i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2636640"/>
            <a:ext cx="7086600" cy="1431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GRUPPI ISTITUZIONALI </a:t>
            </a:r>
            <a:br>
              <a:rPr sz="2800"/>
            </a:br>
            <a:r>
              <a:rPr b="0" lang="en-US" sz="2800" spc="-1" strike="noStrike">
                <a:solidFill>
                  <a:srgbClr val="ff0000"/>
                </a:solidFill>
                <a:latin typeface="Comic Sans MS"/>
              </a:rPr>
              <a:t>CHE SI OCCUPANO DI INTEGRAZIONE</a:t>
            </a:r>
            <a:endParaRPr b="0" lang="en-US" sz="2800" spc="-1" strike="noStrike">
              <a:solidFill>
                <a:srgbClr val="ff0000"/>
              </a:solidFill>
              <a:latin typeface="Comic Sans MS"/>
            </a:endParaRPr>
          </a:p>
        </p:txBody>
      </p:sp>
      <p:sp>
        <p:nvSpPr>
          <p:cNvPr id="152" name=""/>
          <p:cNvSpPr/>
          <p:nvPr/>
        </p:nvSpPr>
        <p:spPr>
          <a:xfrm>
            <a:off x="755640" y="5805360"/>
            <a:ext cx="7451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1"/>
          <a:stretch/>
        </p:blipFill>
        <p:spPr>
          <a:xfrm>
            <a:off x="3708360" y="4076640"/>
            <a:ext cx="2160720" cy="1806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ETENZE DI TIPO ORGANIZZATIVO DEL </a:t>
            </a:r>
            <a:br>
              <a:rPr sz="2800"/>
            </a:br>
            <a:r>
              <a:rPr b="0" lang="en-US" sz="2800" spc="-1" strike="noStrike">
                <a:solidFill>
                  <a:srgbClr val="000000"/>
                </a:solidFill>
                <a:latin typeface="Comic Sans MS"/>
              </a:rPr>
              <a:t>GLH DI ISTITUTO</a:t>
            </a:r>
            <a:endParaRPr b="0" lang="en-US" sz="2800" spc="-1" strike="noStrike">
              <a:solidFill>
                <a:srgbClr val="000000"/>
              </a:solidFill>
              <a:latin typeface="Comic Sans MS"/>
            </a:endParaRPr>
          </a:p>
        </p:txBody>
      </p:sp>
      <p:sp>
        <p:nvSpPr>
          <p:cNvPr id="170" name="PlaceHolder 2"/>
          <p:cNvSpPr>
            <a:spLocks noGrp="1"/>
          </p:cNvSpPr>
          <p:nvPr>
            <p:ph/>
          </p:nvPr>
        </p:nvSpPr>
        <p:spPr>
          <a:xfrm>
            <a:off x="685800" y="2420640"/>
            <a:ext cx="7696080" cy="3065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Gestione delle risorse personali  (assegnazione delle ore di attività di sostegno ai singoli alunni; utilizzo delle compresenze tra i docenti; pianificazione dei rapporti con gli operatori extrascolastici; reperimento di specialisti e consulenze estern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delle modalità di passaggio e di accoglienza dei minori in situazione di handicap; gestione e reperimento delle risorse materiali (sussidi, ausili tecnologici, biblioteche specializzate e/o centri di documentazione, ec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ETENZE DI TIPO ORGANIZZATIVO DEL </a:t>
            </a:r>
            <a:br>
              <a:rPr sz="2800"/>
            </a:br>
            <a:r>
              <a:rPr b="0" lang="en-US" sz="2800" spc="-1" strike="noStrike">
                <a:solidFill>
                  <a:srgbClr val="000000"/>
                </a:solidFill>
                <a:latin typeface="Comic Sans MS"/>
              </a:rPr>
              <a:t>GLH DI ISTITUTO</a:t>
            </a:r>
            <a:endParaRPr b="0" lang="en-US" sz="28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simento delle risorse informali (volontari, famiglie, alunni..)</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etenze di tipo progettuale e valutativo</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ulazione di progetti di continuità fra ordini di scuole</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etti specifici per l’handicap</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etti relativi all’organico</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etti per l’aggiornamento del personale</a:t>
            </a:r>
            <a:endParaRPr b="0" lang="en-US" sz="24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LH OPERATIVO</a:t>
            </a:r>
            <a:br>
              <a:rPr sz="4400"/>
            </a:br>
            <a:r>
              <a:rPr b="0" lang="en-US" sz="2000" spc="-1" strike="noStrike">
                <a:solidFill>
                  <a:srgbClr val="000000"/>
                </a:solidFill>
                <a:latin typeface="Comic Sans MS"/>
              </a:rPr>
              <a:t>Art 15 Legge 104/92</a:t>
            </a:r>
            <a:endParaRPr b="0" lang="en-US" sz="2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ZIONE</a:t>
            </a:r>
            <a:endParaRPr b="0" lang="en-US" sz="3200" spc="-1" strike="noStrike">
              <a:solidFill>
                <a:srgbClr val="000000"/>
              </a:solidFill>
              <a:latin typeface="Comic Sans MS"/>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IGENTE SCOLASTICO O DELEGATO</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CENTE COORDINATORE</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CENTI CURRICOLARI E DI SOSTEGNO</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ERENTE E PERSONALE ASL</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ITORI</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PITI DEL </a:t>
            </a:r>
            <a:br>
              <a:rPr sz="3600"/>
            </a:br>
            <a:r>
              <a:rPr b="0" lang="en-US" sz="3600" spc="-1" strike="noStrike">
                <a:solidFill>
                  <a:srgbClr val="000000"/>
                </a:solidFill>
                <a:latin typeface="Comic Sans MS"/>
              </a:rPr>
              <a:t>GLH OPERATIVO</a:t>
            </a:r>
            <a:endParaRPr b="0" lang="en-US" sz="3600" spc="-1" strike="noStrike">
              <a:solidFill>
                <a:srgbClr val="000000"/>
              </a:solidFill>
              <a:latin typeface="Comic Sans MS"/>
            </a:endParaRPr>
          </a:p>
        </p:txBody>
      </p:sp>
      <p:sp>
        <p:nvSpPr>
          <p:cNvPr id="176" name="PlaceHolder 2"/>
          <p:cNvSpPr>
            <a:spLocks noGrp="1"/>
          </p:cNvSpPr>
          <p:nvPr>
            <p:ph/>
          </p:nvPr>
        </p:nvSpPr>
        <p:spPr>
          <a:xfrm>
            <a:off x="685800" y="2204640"/>
            <a:ext cx="7696080" cy="32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 riunisce, salvo particolari problemi, 3 volte l’ann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Ha il compito</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la stesura e dell’aggiornamento del bilancio diagnostico e prognostico del PDF</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la progettazione e verifica del P.E.I.</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 indicare al GLH di Istituto le ore e le aree di sostegno necessarie nel successivo anno scolastico</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 provvedere ad ogni altro adempimento necessario</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7" name="">
            <a:hlinkClick r:id="" action="ppaction://hlinkshowjump?jump=firstslide"/>
          </p:cNvPr>
          <p:cNvSpPr/>
          <p:nvPr/>
        </p:nvSpPr>
        <p:spPr>
          <a:xfrm>
            <a:off x="7236000" y="5805360"/>
            <a:ext cx="1008000" cy="719280"/>
          </a:xfrm>
          <a:custGeom>
            <a:avLst/>
            <a:gdLst>
              <a:gd name="textAreaLeft" fmla="*/ 46440 w 1008000"/>
              <a:gd name="textAreaRight" fmla="*/ 961560 w 1008000"/>
              <a:gd name="textAreaTop" fmla="*/ 46440 h 719280"/>
              <a:gd name="textAreaBottom" fmla="*/ 672840 h 719280"/>
            </a:gdLst>
            <a:ahLst/>
            <a:rect l="textAreaLeft" t="textAreaTop" r="textAreaRight" b="textAreaBottom"/>
            <a:pathLst>
              <a:path w="30266" h="21600">
                <a:moveTo>
                  <a:pt x="0" y="0"/>
                </a:moveTo>
                <a:lnTo>
                  <a:pt x="30266" y="0"/>
                </a:lnTo>
                <a:lnTo>
                  <a:pt x="30266" y="21600"/>
                </a:lnTo>
                <a:lnTo>
                  <a:pt x="0" y="21600"/>
                </a:lnTo>
                <a:close/>
              </a:path>
              <a:path fill="lightenLess" w="30266" h="21600">
                <a:moveTo>
                  <a:pt x="0" y="0"/>
                </a:moveTo>
                <a:lnTo>
                  <a:pt x="30266" y="0"/>
                </a:lnTo>
                <a:lnTo>
                  <a:pt x="28866" y="1400"/>
                </a:lnTo>
                <a:lnTo>
                  <a:pt x="1400" y="1400"/>
                </a:lnTo>
                <a:close/>
              </a:path>
              <a:path fill="darken" w="30266" h="21600">
                <a:moveTo>
                  <a:pt x="30266" y="0"/>
                </a:moveTo>
                <a:lnTo>
                  <a:pt x="30266" y="21600"/>
                </a:lnTo>
                <a:lnTo>
                  <a:pt x="28866" y="20200"/>
                </a:lnTo>
                <a:lnTo>
                  <a:pt x="28866" y="1400"/>
                </a:lnTo>
                <a:close/>
              </a:path>
              <a:path fill="darkenLess" w="30266" h="21600">
                <a:moveTo>
                  <a:pt x="30266" y="21600"/>
                </a:moveTo>
                <a:lnTo>
                  <a:pt x="0" y="21600"/>
                </a:lnTo>
                <a:lnTo>
                  <a:pt x="1400" y="20200"/>
                </a:lnTo>
                <a:lnTo>
                  <a:pt x="28866" y="20200"/>
                </a:lnTo>
                <a:close/>
              </a:path>
              <a:path fill="lighten" w="30266" h="21600">
                <a:moveTo>
                  <a:pt x="0" y="21600"/>
                </a:moveTo>
                <a:lnTo>
                  <a:pt x="0" y="0"/>
                </a:lnTo>
                <a:lnTo>
                  <a:pt x="1400" y="1400"/>
                </a:lnTo>
                <a:lnTo>
                  <a:pt x="1400" y="20200"/>
                </a:lnTo>
                <a:close/>
              </a:path>
              <a:path fill="darken" w="30266" h="21600">
                <a:moveTo>
                  <a:pt x="15133" y="3837"/>
                </a:moveTo>
                <a:lnTo>
                  <a:pt x="17709" y="6448"/>
                </a:lnTo>
                <a:lnTo>
                  <a:pt x="17709" y="4707"/>
                </a:lnTo>
                <a:lnTo>
                  <a:pt x="19485" y="4707"/>
                </a:lnTo>
                <a:lnTo>
                  <a:pt x="19485" y="8224"/>
                </a:lnTo>
                <a:lnTo>
                  <a:pt x="22096" y="10800"/>
                </a:lnTo>
                <a:lnTo>
                  <a:pt x="20442" y="10800"/>
                </a:lnTo>
                <a:lnTo>
                  <a:pt x="20442" y="17989"/>
                </a:lnTo>
                <a:lnTo>
                  <a:pt x="9824" y="17989"/>
                </a:lnTo>
                <a:lnTo>
                  <a:pt x="9824" y="10800"/>
                </a:lnTo>
                <a:lnTo>
                  <a:pt x="8170" y="10800"/>
                </a:lnTo>
                <a:close/>
              </a:path>
              <a:path fill="darkenLess" w="30266" h="21600">
                <a:moveTo>
                  <a:pt x="17709" y="6448"/>
                </a:moveTo>
                <a:lnTo>
                  <a:pt x="17709" y="4707"/>
                </a:lnTo>
                <a:lnTo>
                  <a:pt x="19485" y="4707"/>
                </a:lnTo>
                <a:lnTo>
                  <a:pt x="19485" y="8224"/>
                </a:lnTo>
                <a:close/>
              </a:path>
              <a:path fill="darkenLess" w="30266" h="21600">
                <a:moveTo>
                  <a:pt x="14210" y="14299"/>
                </a:moveTo>
                <a:lnTo>
                  <a:pt x="16056" y="14299"/>
                </a:lnTo>
                <a:lnTo>
                  <a:pt x="16056" y="17989"/>
                </a:lnTo>
                <a:lnTo>
                  <a:pt x="20442" y="17989"/>
                </a:lnTo>
                <a:lnTo>
                  <a:pt x="20442" y="10800"/>
                </a:lnTo>
                <a:lnTo>
                  <a:pt x="9824" y="10800"/>
                </a:lnTo>
                <a:lnTo>
                  <a:pt x="9824" y="17989"/>
                </a:lnTo>
                <a:lnTo>
                  <a:pt x="14210" y="17989"/>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rt. 15 Legge 104/92</a:t>
            </a:r>
            <a:endParaRPr b="0" lang="en-US" sz="4000" spc="-1" strike="noStrike">
              <a:solidFill>
                <a:srgbClr val="000000"/>
              </a:solidFill>
              <a:latin typeface="Comic Sans MS"/>
            </a:endParaRPr>
          </a:p>
        </p:txBody>
      </p:sp>
      <p:sp>
        <p:nvSpPr>
          <p:cNvPr id="179" name="PlaceHolder 2"/>
          <p:cNvSpPr>
            <a:spLocks noGrp="1"/>
          </p:cNvSpPr>
          <p:nvPr>
            <p:ph/>
          </p:nvPr>
        </p:nvSpPr>
        <p:spPr>
          <a:xfrm>
            <a:off x="1376280" y="1968120"/>
            <a:ext cx="6796080" cy="35146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 Gruppi di lavoro per l'integrazione scolastica.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  Presso ogni ufficio scolastico provinciale è istituito un gruppo di lavoro composto da: un ispettore tecnico nominato dal provveditore agli studi, un esperto della scuola utilizzato ai sensi dell'articolo 14, decimo comma, della legge 20 maggio 1982, n. 270, e successive modificazioni, due esperti designati dagli enti locali, due esperti delle unità sanitarie locali, tre esperti designati dalle associazioni delle persone handicappate maggiormente rappresentative a livello provinciale nominati dal provveditore agli studi sulla base dei criteri indicati dal Ministro della pubblica istruzione entro novanta giorni dalla data di entrata in vigore della presente legge. Il gruppo di lavoro dura in carica tre ann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Presso ogni circolo didattico ed istituto di scuola secondaria di primo e secondo grado sono costituiti gruppi di studio e di lavoro composti da insegnanti, operatori dei servizi, familiari e studenti con il compito di collaborare alle iniziative educative e di integrazione predisposte dal piano educativo.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 name="">
            <a:hlinkClick r:id="rId1" action="ppaction://hlinksldjump"/>
          </p:cNvPr>
          <p:cNvSpPr/>
          <p:nvPr/>
        </p:nvSpPr>
        <p:spPr>
          <a:xfrm>
            <a:off x="7451640" y="5516640"/>
            <a:ext cx="1152720" cy="718920"/>
          </a:xfrm>
          <a:custGeom>
            <a:avLst/>
            <a:gdLst>
              <a:gd name="textAreaLeft" fmla="*/ 46440 w 1152720"/>
              <a:gd name="textAreaRight" fmla="*/ 1106280 w 1152720"/>
              <a:gd name="textAreaTop" fmla="*/ 46440 h 718920"/>
              <a:gd name="textAreaBottom" fmla="*/ 672480 h 718920"/>
            </a:gdLst>
            <a:ahLst/>
            <a:rect l="textAreaLeft" t="textAreaTop" r="textAreaRight" b="textAreaBottom"/>
            <a:pathLst>
              <a:path w="34627" h="21600">
                <a:moveTo>
                  <a:pt x="0" y="0"/>
                </a:moveTo>
                <a:lnTo>
                  <a:pt x="34627" y="0"/>
                </a:lnTo>
                <a:lnTo>
                  <a:pt x="34627" y="21600"/>
                </a:lnTo>
                <a:lnTo>
                  <a:pt x="0" y="21600"/>
                </a:lnTo>
                <a:close/>
              </a:path>
              <a:path fill="lightenLess" w="34627" h="21600">
                <a:moveTo>
                  <a:pt x="0" y="0"/>
                </a:moveTo>
                <a:lnTo>
                  <a:pt x="34627" y="0"/>
                </a:lnTo>
                <a:lnTo>
                  <a:pt x="33227" y="1400"/>
                </a:lnTo>
                <a:lnTo>
                  <a:pt x="1400" y="1400"/>
                </a:lnTo>
                <a:close/>
              </a:path>
              <a:path fill="darken" w="34627" h="21600">
                <a:moveTo>
                  <a:pt x="34627" y="0"/>
                </a:moveTo>
                <a:lnTo>
                  <a:pt x="34627" y="21600"/>
                </a:lnTo>
                <a:lnTo>
                  <a:pt x="33227" y="20200"/>
                </a:lnTo>
                <a:lnTo>
                  <a:pt x="33227" y="1400"/>
                </a:lnTo>
                <a:close/>
              </a:path>
              <a:path fill="darkenLess" w="34627" h="21600">
                <a:moveTo>
                  <a:pt x="34627" y="21600"/>
                </a:moveTo>
                <a:lnTo>
                  <a:pt x="0" y="21600"/>
                </a:lnTo>
                <a:lnTo>
                  <a:pt x="1400" y="20200"/>
                </a:lnTo>
                <a:lnTo>
                  <a:pt x="33227" y="20200"/>
                </a:lnTo>
                <a:close/>
              </a:path>
              <a:path fill="lighten" w="34627" h="21600">
                <a:moveTo>
                  <a:pt x="0" y="21600"/>
                </a:moveTo>
                <a:lnTo>
                  <a:pt x="0" y="0"/>
                </a:lnTo>
                <a:lnTo>
                  <a:pt x="1400" y="1400"/>
                </a:lnTo>
                <a:lnTo>
                  <a:pt x="1400" y="20200"/>
                </a:lnTo>
                <a:close/>
              </a:path>
              <a:path fill="darken" w="34627" h="21600">
                <a:moveTo>
                  <a:pt x="10307" y="10800"/>
                </a:moveTo>
                <a:lnTo>
                  <a:pt x="24320" y="3794"/>
                </a:lnTo>
                <a:lnTo>
                  <a:pt x="24320"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b200"/>
                </a:solidFill>
                <a:uFillTx/>
                <a:latin typeface="Comic Sans MS"/>
                <a:hlinkClick r:id="rId1"/>
              </a:rPr>
              <a:t>giovannidelrio1@gmail.co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b200"/>
                </a:solidFill>
                <a:uFillTx/>
                <a:latin typeface="Comic Sans MS"/>
                <a:hlinkClick r:id="rId2"/>
              </a:rPr>
              <a:t>sindromedidown@tin.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ownneapolis.it (x il Vademecum) nello spazio  Inserimento Scolastico</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GLIP</a:t>
            </a:r>
            <a:r>
              <a:rPr b="0" lang="en-US" sz="3200" spc="-1" strike="noStrike">
                <a:solidFill>
                  <a:srgbClr val="000000"/>
                </a:solidFill>
                <a:latin typeface="Comic Sans MS"/>
              </a:rPr>
              <a:t> presso Ufficio Scolastico Provincia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Gruppo H</a:t>
            </a:r>
            <a:r>
              <a:rPr b="0" lang="en-US" sz="3200" spc="-1" strike="noStrike">
                <a:solidFill>
                  <a:srgbClr val="000000"/>
                </a:solidFill>
                <a:latin typeface="Comic Sans MS"/>
              </a:rPr>
              <a:t> presso Ufficio Scolastico Provincia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GLH</a:t>
            </a:r>
            <a:r>
              <a:rPr b="0" lang="en-US" sz="3200" spc="-1" strike="noStrike">
                <a:solidFill>
                  <a:srgbClr val="000000"/>
                </a:solidFill>
                <a:latin typeface="Comic Sans MS"/>
              </a:rPr>
              <a:t> di Istitut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GLH</a:t>
            </a:r>
            <a:r>
              <a:rPr b="0" lang="en-US" sz="3200" spc="-1" strike="noStrike">
                <a:solidFill>
                  <a:srgbClr val="000000"/>
                </a:solidFill>
                <a:latin typeface="Comic Sans MS"/>
              </a:rPr>
              <a:t> operativo</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620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G.L.I.P </a:t>
            </a:r>
            <a:br>
              <a:rPr sz="4000"/>
            </a:br>
            <a:r>
              <a:rPr b="0" lang="it-IT" sz="2800" spc="-1" strike="noStrike">
                <a:solidFill>
                  <a:srgbClr val="000000"/>
                </a:solidFill>
                <a:latin typeface="Comic Sans MS"/>
              </a:rPr>
              <a:t>costituito presso l’Ufficio Scolastico Provinciale (ex CSA)</a:t>
            </a:r>
            <a:endParaRPr b="0" lang="en-US" sz="28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uppo di lavoro Interistituzionale Provinciale</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1" action="ppaction://hlinksldjump"/>
              </a:rPr>
              <a:t>Art 15 Legge 104/92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M. 122/94</a:t>
            </a:r>
            <a:r>
              <a:rPr b="0" lang="en-US" sz="1800" spc="-1" strike="noStrike">
                <a:solidFill>
                  <a:srgbClr val="000000"/>
                </a:solidFill>
                <a:latin typeface="Comic Sans MS"/>
              </a:rPr>
              <a:t>  </a:t>
            </a:r>
            <a:r>
              <a:rPr b="1" lang="en-US" sz="1800" spc="-1" strike="noStrike">
                <a:solidFill>
                  <a:srgbClr val="000000"/>
                </a:solidFill>
                <a:latin typeface="Comic Sans MS"/>
              </a:rPr>
              <a:t> Criteri per la costituzione dei gruppi di lavoro provinciali interistituzionali a nomina del provveditore agli studi, ai sensi dell'art. 15 della legge-quadro 5 febbraio 1992, n. 104 , sull'assistenza, l'integrazione sociale e i diritti delle persone handicappate</a:t>
            </a:r>
            <a:endParaRPr b="0" lang="en-US" sz="1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000" y="69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UPPO H </a:t>
            </a:r>
            <a:br>
              <a:rPr sz="4000"/>
            </a:br>
            <a:r>
              <a:rPr b="0" lang="en-US" sz="2800" spc="-1" strike="noStrike">
                <a:solidFill>
                  <a:srgbClr val="000000"/>
                </a:solidFill>
                <a:latin typeface="Comic Sans MS"/>
              </a:rPr>
              <a:t>costituito presso l’Ufficio Scolastico Provinciale (ex CSA)</a:t>
            </a:r>
            <a:endParaRPr b="0" lang="en-US" sz="2800" spc="-1" strike="noStrike">
              <a:solidFill>
                <a:srgbClr val="000000"/>
              </a:solidFill>
              <a:latin typeface="Comic Sans MS"/>
            </a:endParaRPr>
          </a:p>
        </p:txBody>
      </p:sp>
      <p:sp>
        <p:nvSpPr>
          <p:cNvPr id="158" name="PlaceHolder 2"/>
          <p:cNvSpPr>
            <a:spLocks noGrp="1"/>
          </p:cNvSpPr>
          <p:nvPr>
            <p:ph/>
          </p:nvPr>
        </p:nvSpPr>
        <p:spPr>
          <a:xfrm>
            <a:off x="684360" y="2708280"/>
            <a:ext cx="7696080" cy="21607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uppo di programmazione per l’Integrazione scolastica degli alunni in situazione di handicap</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M. 227/75</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M. 122/94</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M. 123/94</a:t>
            </a:r>
            <a:endParaRPr b="0" lang="en-US" sz="2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LH DI ISTITUTO</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uppo di studio e lavoro costituito presso le singole scuole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M. 262/88</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gge 104/92 (art. 15 comma 2)</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M. 122/94</a:t>
            </a: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LH DI ISTITUTO</a:t>
            </a:r>
            <a:endParaRPr b="0" lang="en-US" sz="4400" spc="-1" strike="noStrike">
              <a:solidFill>
                <a:srgbClr val="000000"/>
              </a:solidFill>
              <a:latin typeface="Comic Sans MS"/>
            </a:endParaRPr>
          </a:p>
        </p:txBody>
      </p:sp>
      <p:sp>
        <p:nvSpPr>
          <p:cNvPr id="162" name="PlaceHolder 2"/>
          <p:cNvSpPr>
            <a:spLocks noGrp="1"/>
          </p:cNvSpPr>
          <p:nvPr>
            <p:ph/>
          </p:nvPr>
        </p:nvSpPr>
        <p:spPr>
          <a:xfrm>
            <a:off x="1376280" y="1909800"/>
            <a:ext cx="6796080" cy="3247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OSIZIONE</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IGENTE SCOLASTICO</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CENTE COORDINATOR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CENTI CURRICOLARI E DI SOSTEGNO</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FERENTE AS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PPRESENTANTI DEI GENITORI</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PPRESENTANTE ALUNNI DISABILI</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PPRESENTANTE STUDENTI</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ssono farne  parte anche rappresentanti di Enti ed Associazioni</a:t>
            </a:r>
            <a:endParaRPr b="0" lang="en-US" sz="1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PITI DEL </a:t>
            </a:r>
            <a:br>
              <a:rPr sz="3600"/>
            </a:br>
            <a:r>
              <a:rPr b="0" lang="en-US" sz="3600" spc="-1" strike="noStrike">
                <a:solidFill>
                  <a:srgbClr val="000000"/>
                </a:solidFill>
                <a:latin typeface="Comic Sans MS"/>
              </a:rPr>
              <a:t>GLH DI ISTITUTO</a:t>
            </a:r>
            <a:endParaRPr b="0" lang="en-US" sz="36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riunisce in media 2 volte l’ann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costituzione del GLH di Istituto rientra tra gli obblighi che riguardano direttamente il capo di istitu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gruppo di lavoro presiede alla programmazione generale dell’integrazione scolastica nella scuola ed ha il compito di “collaborare alle iniziative educative e di integrazione previste dal piano educativo individualizzato” dei singoli alunni (Legge 104/92)</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PITI DEL </a:t>
            </a:r>
            <a:br>
              <a:rPr sz="3600"/>
            </a:br>
            <a:r>
              <a:rPr b="0" lang="en-US" sz="3600" spc="-1" strike="noStrike">
                <a:solidFill>
                  <a:srgbClr val="000000"/>
                </a:solidFill>
                <a:latin typeface="Comic Sans MS"/>
              </a:rPr>
              <a:t>GLH DI ISTITUTO</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iene per</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re la situazione complessiva nell’ambito dei plessi di competenza (numero degli alunni in situazione di handicap, tipologia degli handicap, classi coinvolt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re le risorse dell’Istituto, sia umane che materiali</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sporre una proposta di calendario per gli incontri dei GLH operativi</a:t>
            </a:r>
            <a:endParaRPr b="0" lang="en-US" sz="24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PITI DEL </a:t>
            </a:r>
            <a:br>
              <a:rPr sz="3600"/>
            </a:br>
            <a:r>
              <a:rPr b="0" lang="en-US" sz="3600" spc="-1" strike="noStrike">
                <a:solidFill>
                  <a:srgbClr val="000000"/>
                </a:solidFill>
                <a:latin typeface="Comic Sans MS"/>
              </a:rPr>
              <a:t>GLH DI ISTITUTO</a:t>
            </a:r>
            <a:endParaRPr b="0" lang="en-US" sz="36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iene p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care periodicamente gli interventi a livello di istitu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ulare proposte per la formazione e l’aggiornamento, anche nell’ottica di prevedere corsi di aggiornamento “comuni” per il personale delle scuole, delle ASL e degli Enti locali, impegnati in piani educativi e di recupero individualizzati</a:t>
            </a:r>
            <a:endParaRPr b="0" lang="en-US" sz="2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7:42:01Z</dcterms:created>
  <dc:creator>xxx</dc:creator>
  <dc:description/>
  <dc:language>en-US</dc:language>
  <cp:lastModifiedBy>ipia</cp:lastModifiedBy>
  <dcterms:modified xsi:type="dcterms:W3CDTF">2014-02-05T10:40:36Z</dcterms:modified>
  <cp:revision>6</cp:revision>
  <dc:subject/>
  <dc:title>I GRUPPI ISTITUZIONALI  CHE SI OCCUPANO DI INTEGRAZIONE</dc:title>
</cp:coreProperties>
</file>