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280F-815D-4D6D-960F-B17534BF8C8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C18D-07CA-4E23-B308-64CC1F70B2C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9BD8-5F6D-42B1-B7E1-C7AFBBC0668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C3EF-18FE-4A74-AB9D-9C12C8AA4B7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4181-A687-4C95-AE81-9DC0890C91D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FC2D-965F-44E0-BE35-FB3DBCA13A6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6F9F-E7B8-4494-BEC5-D94F889A50F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D34C-8079-4D7D-BA0E-9A24CB34A9B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0022-9B67-4EBC-8F69-B8E2F7B9170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3380-2C30-41D3-882C-A6ACDF03A98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B432-B8FC-437C-BE07-809E81474B0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2AD9-8844-4EF2-9C4A-24477C88457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2D5D-DA31-406B-9AC4-45C607FB135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C8FD-7498-48D6-BFAF-61BDC8760D4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9F00-2047-466D-9A73-ECFE598DA35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CDF6-1E7B-4EF1-A286-0BDEB90B245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BBC4-0D69-4E74-8099-9B619F1FA63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CECC8-154D-437A-A7E4-13E674E2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6533C-D4D0-464A-8123-792282BE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A45BF-720F-4093-B204-F9342562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6FF5E-0D8B-40EC-ACA8-02A48900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37F2-1C3B-4D49-B7CE-033DCD65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FD29-DF8F-4B7B-935E-521ABE67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CEF8-9065-4364-B333-7E0569AE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B1FD-08F7-4EFB-B2A1-54C4FC2B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6CF0-90EF-47D3-B59E-BDE9ED96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CCA9-ACC7-4E6C-BD59-E293EB96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E23F-8BAC-48DE-A889-49C6BC97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724D-589A-41F8-B88F-2A5E641B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4124-DEA6-45BC-8F31-B19446D7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DA1B-5DFB-49C9-85AC-65C2BD35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EF4B-ED0B-4613-BD09-A99665AE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90DD-ADFF-49D5-BB1A-7B53574D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2081-7503-4950-8B90-8617F772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771EE-D4EB-4860-BDD0-229209C1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3288F-75E2-41E6-B086-62AF8FB7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27CE8-25FB-43D7-9BC0-8E5E4003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C69C-6C12-4F76-A080-83B96632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C1147-DF0D-4144-B0AA-B1F3EF65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E679-9A1B-46C4-AA3F-78CF479C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C758D-F266-4904-9040-0F852B62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E522-6495-4C42-A54B-EB0E91D3863F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147C-ABD8-475C-9E74-8FEEE511FCEF}" type="datetime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B2CC-394B-4F78-B15B-243D27100183}" type="datetime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19B4-3210-45B3-BF3C-F5E098FF4A22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indire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I nuovi </a:t>
            </a:r>
            <a:br>
              <a:rPr sz="3000"/>
            </a:br>
            <a:r>
              <a:rPr b="0" lang="it-IT" sz="6800" spc="-1" strike="noStrike">
                <a:solidFill>
                  <a:srgbClr val="ffffff"/>
                </a:solidFill>
                <a:latin typeface="Arial"/>
              </a:rPr>
              <a:t>Istituti Tecnici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11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CasellaDiTesto 5"/>
          <p:cNvSpPr/>
          <p:nvPr/>
        </p:nvSpPr>
        <p:spPr>
          <a:xfrm>
            <a:off x="324000" y="4365720"/>
            <a:ext cx="8632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Schema di regolamento recante norme concernenti il riordino degli Istituti Tecnici ai sensi dell’articolo 64, comma 4, del decreto legge 25 giugno 2008, n. 112, convertito dalla legge 6 agosto 2008, n. 133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”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Berlin Sans FB"/>
              </a:rPr>
              <a:t>deliberato in prima lettura dal Consiglio dei Ministri il 28/5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8855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ORE DI INSEG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7"/>
          <p:cNvGrpSpPr/>
          <p:nvPr/>
        </p:nvGrpSpPr>
        <p:grpSpPr>
          <a:xfrm>
            <a:off x="7812000" y="333360"/>
            <a:ext cx="1295640" cy="1129320"/>
            <a:chOff x="7812000" y="333360"/>
            <a:chExt cx="1295640" cy="1129320"/>
          </a:xfrm>
        </p:grpSpPr>
        <p:pic>
          <p:nvPicPr>
            <p:cNvPr id="18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028000" y="33336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9"/>
            <p:cNvSpPr/>
            <p:nvPr/>
          </p:nvSpPr>
          <p:spPr>
            <a:xfrm>
              <a:off x="7812000" y="112536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0"/>
          <p:cNvSpPr/>
          <p:nvPr/>
        </p:nvSpPr>
        <p:spPr>
          <a:xfrm>
            <a:off x="395280" y="134136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Aumento previ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4000" y="2421000"/>
          <a:ext cx="8497800" cy="3792600"/>
        </p:xfrm>
        <a:graphic>
          <a:graphicData uri="http://schemas.openxmlformats.org/drawingml/2006/table">
            <a:tbl>
              <a:tblPr/>
              <a:tblGrid>
                <a:gridCol w="4251240"/>
                <a:gridCol w="424656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rio attua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i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lla maggior parte delle scuole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isto dalla Rifor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98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6 ore settimanali di 50 minuti</a:t>
                      </a:r>
                      <a:br>
                        <a:rPr sz="3200"/>
                      </a:br>
                      <a:br>
                        <a:rPr sz="3200"/>
                      </a:b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</a:t>
                      </a:r>
                      <a:r>
                        <a:rPr b="1" lang="it-IT" sz="3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0</a:t>
                      </a: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ore annue effettiv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2 ore settimanali di 60 minuti</a:t>
                      </a:r>
                      <a:br>
                        <a:rPr sz="3200"/>
                      </a:br>
                      <a:br>
                        <a:rPr sz="3200"/>
                      </a:b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</a:t>
                      </a:r>
                      <a:r>
                        <a:rPr b="1" lang="it-IT" sz="3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.056</a:t>
                      </a: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ore annuali di lezi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Rectangle 21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68360" y="2276640"/>
          <a:ext cx="8136000" cy="3587760"/>
        </p:xfrm>
        <a:graphic>
          <a:graphicData uri="http://schemas.openxmlformats.org/drawingml/2006/table">
            <a:tbl>
              <a:tblPr/>
              <a:tblGrid>
                <a:gridCol w="2663640"/>
                <a:gridCol w="2733840"/>
                <a:gridCol w="273852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A GENER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RIZ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F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91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imo bienn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60 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6 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condo biennio e quinto an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95 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61 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0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191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ttangolo 10"/>
          <p:cNvSpPr/>
          <p:nvPr/>
        </p:nvSpPr>
        <p:spPr>
          <a:xfrm>
            <a:off x="395280" y="56196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LA STRUTTURA DEL PERCORSO</a:t>
            </a:r>
            <a:br>
              <a:rPr sz="3200"/>
            </a:b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QUINQUEN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6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85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CARATTERISTICHE INNO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376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Forte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ntegrazione tra saperi teorici e saperi operativi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Risultati di apprendimento declinati in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mpetenze, abilità e conoscenze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 anche con riferimento al Quadro europeo dei titoli e delle qualifiche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 (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EQF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),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per favorire la mobilità delle persone nell’Unione europea (da definire con apposito regolament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Centralità dei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laboratori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Stage, tirocini e alternanza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scuola-lavoro per apprendere in contesti operativ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Possibile collaborazione con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esperti esterni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per arricchire l’offerta formativa </a:t>
            </a:r>
            <a:br>
              <a:rPr sz="24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e sviluppare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mpetenze specialisti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7"/>
          <p:cNvGrpSpPr/>
          <p:nvPr/>
        </p:nvGrpSpPr>
        <p:grpSpPr>
          <a:xfrm>
            <a:off x="7715160" y="142920"/>
            <a:ext cx="1295640" cy="1129320"/>
            <a:chOff x="7715160" y="142920"/>
            <a:chExt cx="1295640" cy="1129320"/>
          </a:xfrm>
        </p:grpSpPr>
        <p:pic>
          <p:nvPicPr>
            <p:cNvPr id="19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31160" y="14292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9"/>
            <p:cNvSpPr/>
            <p:nvPr/>
          </p:nvSpPr>
          <p:spPr>
            <a:xfrm>
              <a:off x="7715160" y="9349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604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VALUTAZIONE E ESAMI DI S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Per la valutazione periodica e finale </a:t>
            </a:r>
            <a:br>
              <a:rPr sz="3200"/>
            </a:b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degli studenti e per gli esami di St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sono previste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prove finalizzate anche all’accertamento delle competenze in contesti applicativi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;</a:t>
            </a: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 le Commissioni degli esami di Stato possono avvalersi anche di qualificati esperti del mondo economico e produt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206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747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CRITERI DI CONFLUENZA NEL NUOVO ORDI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071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Il sistema è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RIORDINATO</a:t>
            </a:r>
            <a:r>
              <a:rPr b="0" lang="it-IT" sz="2800" spc="-1" strike="noStrike">
                <a:solidFill>
                  <a:srgbClr val="c10311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e</a:t>
            </a:r>
            <a:r>
              <a:rPr b="0" lang="it-IT" sz="2800" spc="-1" strike="noStrike">
                <a:solidFill>
                  <a:srgbClr val="c10311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INNOVA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per valorizzare le vocazioni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degli istituti tecnic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Tutti i corsi di ordinamento e le relative sperimentazioni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degli attuali istituti tecnic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confluiscono nel nuovo ordinament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21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STITUTO TECNICO DEL SETTORE TECNOLOGICO E LICEO SCIENTIFICO AD OPZIONE SCIENTIFICO-TECNOLOGICA: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OFILI CULTURALI E RISULTATI di APPREND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000" y="1533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STITUTO TECNICO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TTORE TECNOLOGIC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ICEO SCIENTIF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PZIONE SCIENTIFICO –TECNOLO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800600" y="1488600"/>
            <a:ext cx="4038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gli istituti tecnici del settore tecnologico  lo studio della scienza e della tecnologia ha una valenza culturale generale, che garantisce il proseguimento degli studi, ma fornisce anche specifiche competenze professionali correlate  ai processi produttivi reali, collegati all’economia e al lavoro. In quanto rispondono alle esigenze del mondo produttivo, tali competenze offrono anche immediate opportunità di occupazi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 opzione scientifico-tecnologica del Liceo scientifico è finalizzata a un approfondimento culturale della  scienza e alla padronanza dei suoi metodi, con particolare riferimento alle scienze sperimentali. La disciplina Informatica e Sistemi completa il quadro di cultura generale. Questa opzione è, quindi, prevalentemente orientata alla prosecuzione degli studi a livello universit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ccia circolare in su 4"/>
          <p:cNvSpPr/>
          <p:nvPr/>
        </p:nvSpPr>
        <p:spPr>
          <a:xfrm>
            <a:off x="2484360" y="2781360"/>
            <a:ext cx="2357640" cy="571320"/>
          </a:xfrm>
          <a:custGeom>
            <a:avLst/>
            <a:gdLst>
              <a:gd name="textAreaLeft" fmla="*/ 535680 w 2357640"/>
              <a:gd name="textAreaRight" fmla="*/ 1750680 w 235764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18" hR="21600" stAng="10800000" swAng="-5400000"/>
                <a:lnTo>
                  <a:pt x="11128" y="21600"/>
                </a:lnTo>
                <a:arcTo wR="9818" hR="21600" stAng="5400000" swAng="-3624081"/>
                <a:lnTo>
                  <a:pt x="21288" y="5400"/>
                </a:lnTo>
                <a:lnTo>
                  <a:pt x="20291" y="0"/>
                </a:lnTo>
                <a:lnTo>
                  <a:pt x="18670" y="5400"/>
                </a:lnTo>
                <a:lnTo>
                  <a:pt x="19324" y="5400"/>
                </a:lnTo>
                <a:arcTo wR="9818" hR="21600" stAng="1775919" swAng="3519633"/>
                <a:lnTo>
                  <a:pt x="10473" y="21552"/>
                </a:lnTo>
                <a:arcTo wR="9818" hR="21600" stAng="5504447" swAng="5295553"/>
                <a:close/>
              </a:path>
              <a:path fill="darkenLess" w="21600" h="21600">
                <a:moveTo>
                  <a:pt x="0" y="0"/>
                </a:moveTo>
                <a:arcTo wR="9818" hR="21600" stAng="10800000" swAng="-5400000"/>
                <a:lnTo>
                  <a:pt x="11128" y="21600"/>
                </a:lnTo>
                <a:arcTo wR="9818" hR="21600" stAng="5400000" swAng="104447"/>
                <a:lnTo>
                  <a:pt x="10473" y="21552"/>
                </a:lnTo>
                <a:arcTo wR="9818" hR="21600" stAng="5504447" swAng="5295553"/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ccia circolare in su 5"/>
          <p:cNvSpPr/>
          <p:nvPr/>
        </p:nvSpPr>
        <p:spPr>
          <a:xfrm>
            <a:off x="2627280" y="5516640"/>
            <a:ext cx="2286000" cy="571320"/>
          </a:xfrm>
          <a:custGeom>
            <a:avLst/>
            <a:gdLst>
              <a:gd name="textAreaLeft" fmla="*/ 517680 w 2286000"/>
              <a:gd name="textAreaRight" fmla="*/ 1696680 w 228600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788" hR="21600" stAng="10800000" swAng="-5400000"/>
                <a:lnTo>
                  <a:pt x="11138" y="21600"/>
                </a:lnTo>
                <a:arcTo wR="9788" hR="21600" stAng="5400000" swAng="-3619483"/>
                <a:lnTo>
                  <a:pt x="21289" y="5400"/>
                </a:lnTo>
                <a:lnTo>
                  <a:pt x="20250" y="0"/>
                </a:lnTo>
                <a:lnTo>
                  <a:pt x="18589" y="5400"/>
                </a:lnTo>
                <a:lnTo>
                  <a:pt x="19264" y="5400"/>
                </a:lnTo>
                <a:arcTo wR="9788" hR="21600" stAng="1780517" swAng="3511832"/>
                <a:lnTo>
                  <a:pt x="10462" y="21549"/>
                </a:lnTo>
                <a:arcTo wR="9788" hR="21600" stAng="5507651" swAng="5292349"/>
                <a:close/>
              </a:path>
              <a:path fill="darkenLess" w="21600" h="21600">
                <a:moveTo>
                  <a:pt x="0" y="0"/>
                </a:moveTo>
                <a:arcTo wR="9788" hR="21600" stAng="10800000" swAng="-5400000"/>
                <a:lnTo>
                  <a:pt x="11138" y="21600"/>
                </a:lnTo>
                <a:arcTo wR="9788" hR="21600" stAng="5400000" swAng="107651"/>
                <a:lnTo>
                  <a:pt x="10462" y="21549"/>
                </a:lnTo>
                <a:arcTo wR="9788" hR="21600" stAng="5507651" swAng="5292349"/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7"/>
          <p:cNvGrpSpPr/>
          <p:nvPr/>
        </p:nvGrpSpPr>
        <p:grpSpPr>
          <a:xfrm>
            <a:off x="8001000" y="71280"/>
            <a:ext cx="1000080" cy="948960"/>
            <a:chOff x="8001000" y="71280"/>
            <a:chExt cx="1000080" cy="948960"/>
          </a:xfrm>
        </p:grpSpPr>
        <p:pic>
          <p:nvPicPr>
            <p:cNvPr id="22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67680" y="71280"/>
              <a:ext cx="588240" cy="5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9"/>
            <p:cNvSpPr/>
            <p:nvPr/>
          </p:nvSpPr>
          <p:spPr>
            <a:xfrm>
              <a:off x="8001000" y="68292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604800"/>
            <a:ext cx="8229600" cy="96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ICEO DELLE SCIENZE UMANE AD OPZIONE ECONOMICO-SOCIALE E ISTITUTO TECNICO DEL SETTORE ECONOMICO “AMMINISTRAZIONE, FINANZA E MARKETING”: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MPARAZIONE DEI PROFILI CULTURALI E DEI RISULTATI di APPREND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1680" y="178596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ICEO DELLE SCIENZE 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PZIONE ECONOMICO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STITUTO TE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TTORE ECONOM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AMMINISTRAZIONE, FINANZA E MARKETING 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800600" y="1533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Cogliere  nessi ed interazioni tra le diverse scienze sociali (storia, diritto, economia, sociologia, antropologia, psicologia, ecc.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Individuare e utilizzare le categorie utili per la comprensione  dei fenomeni culturali e sociali contemporane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Operare nel governo dei sistemi aziendali con riferimento a previsione, organizzazione, conduzione, gestione e contr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Operare nel sistema informativo dell’azienda  e contribuire sia alla sua innovazione  sia al suo adeguamento organizzativo e tecnologic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ccia circolare in su 9"/>
          <p:cNvSpPr/>
          <p:nvPr/>
        </p:nvSpPr>
        <p:spPr>
          <a:xfrm>
            <a:off x="3643200" y="5643720"/>
            <a:ext cx="1500480" cy="500040"/>
          </a:xfrm>
          <a:custGeom>
            <a:avLst/>
            <a:gdLst>
              <a:gd name="textAreaLeft" fmla="*/ 327960 w 1500480"/>
              <a:gd name="textAreaRight" fmla="*/ 1109880 w 15004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8215200" y="0"/>
            <a:ext cx="785880" cy="817560"/>
            <a:chOff x="8215200" y="0"/>
            <a:chExt cx="785880" cy="817560"/>
          </a:xfrm>
        </p:grpSpPr>
        <p:pic>
          <p:nvPicPr>
            <p:cNvPr id="231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46240" y="0"/>
              <a:ext cx="46224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9"/>
            <p:cNvSpPr/>
            <p:nvPr/>
          </p:nvSpPr>
          <p:spPr>
            <a:xfrm>
              <a:off x="8215200" y="480240"/>
              <a:ext cx="78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Freccia circolare in su 12"/>
          <p:cNvSpPr/>
          <p:nvPr/>
        </p:nvSpPr>
        <p:spPr>
          <a:xfrm>
            <a:off x="3643200" y="3429000"/>
            <a:ext cx="1500480" cy="500040"/>
          </a:xfrm>
          <a:custGeom>
            <a:avLst/>
            <a:gdLst>
              <a:gd name="textAreaLeft" fmla="*/ 327960 w 1500480"/>
              <a:gd name="textAreaRight" fmla="*/ 1109880 w 15004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74760" y="419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LE FASI DI ATTU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Con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successivi decreti ministeriali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 sono definiti i seguenti aspetti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descrizione de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risultati d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pprendimento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7d"/>
                </a:solidFill>
                <a:latin typeface="Arial"/>
              </a:rPr>
              <a:t>(competenze, abilità e conoscenze)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in relazione agli insegnamenti previsti negli Allegati B e C del Regolamento (</a:t>
            </a:r>
            <a:r>
              <a:rPr b="0" i="1" lang="it-IT" sz="2000" spc="-1" strike="noStrike">
                <a:solidFill>
                  <a:srgbClr val="00007d"/>
                </a:solidFill>
                <a:latin typeface="Arial"/>
              </a:rPr>
              <a:t>profili professionali e quadri orari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criteri e modalità  per definire le </a:t>
            </a:r>
            <a:r>
              <a:rPr b="1" lang="it-IT" sz="2000" spc="-1" strike="noStrike">
                <a:solidFill>
                  <a:srgbClr val="ff6600"/>
                </a:solidFill>
                <a:latin typeface="Arial"/>
              </a:rPr>
              <a:t>opzioni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cui è possibile articolare l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 aree di indirizz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predisposizione dell’</a:t>
            </a:r>
            <a:r>
              <a:rPr b="1" lang="it-IT" sz="2000" spc="-1" strike="noStrike">
                <a:solidFill>
                  <a:srgbClr val="ff6600"/>
                </a:solidFill>
                <a:latin typeface="Arial"/>
              </a:rPr>
              <a:t>elenco nazionale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delle opzioni, con indicazione delle discipline di riferimento, il relativo monte ore, la descrizione dei risultati di apprendimen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definizione delle</a:t>
            </a:r>
            <a:r>
              <a:rPr b="1" lang="it-IT" sz="2000" spc="-1" strike="noStrike">
                <a:solidFill>
                  <a:srgbClr val="c10311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lassi di concorso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e articolazione delle cattedre del personale docente, compreso quello da destinare all’Ufficio tecn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definizione degl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indicatori per la valutazione e l’autovalutazione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di sistema degli istituti tecnici con riferimento al Quadro europeo per la qualità dei sistemi di istruzione e form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23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egnaposto numero diapositiva 2"/>
          <p:cNvSpPr/>
          <p:nvPr/>
        </p:nvSpPr>
        <p:spPr>
          <a:xfrm>
            <a:off x="6553080" y="6138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150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MISURE DI ACCOMPAG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7"/>
          <p:cNvGrpSpPr/>
          <p:nvPr/>
        </p:nvGrpSpPr>
        <p:grpSpPr>
          <a:xfrm>
            <a:off x="7705800" y="33480"/>
            <a:ext cx="1295280" cy="1129320"/>
            <a:chOff x="7705800" y="33480"/>
            <a:chExt cx="1295280" cy="1129320"/>
          </a:xfrm>
        </p:grpSpPr>
        <p:pic>
          <p:nvPicPr>
            <p:cNvPr id="244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3348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9"/>
            <p:cNvSpPr/>
            <p:nvPr/>
          </p:nvSpPr>
          <p:spPr>
            <a:xfrm>
              <a:off x="7705800" y="8254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181080" y="1488960"/>
          <a:ext cx="8820000" cy="4869000"/>
        </p:xfrm>
        <a:graphic>
          <a:graphicData uri="http://schemas.openxmlformats.org/drawingml/2006/table">
            <a:tbl>
              <a:tblPr/>
              <a:tblGrid>
                <a:gridCol w="3529080"/>
                <a:gridCol w="529092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TINATA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I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e scolast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ovani e famigl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nformazione/formazione</a:t>
                      </a:r>
                      <a:r>
                        <a:rPr b="0" lang="it-IT" sz="21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del personale scolastico sui contenuti della riforma;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ampagna di informazione</a:t>
                      </a:r>
                      <a:r>
                        <a:rPr b="0" lang="it-IT" sz="21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in relazione alle scelte per l’anno scolastico 2010/2011;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terventi da attuare in collaborazione con l’ANSA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7" name="Rectangle 51"/>
          <p:cNvSpPr/>
          <p:nvPr/>
        </p:nvSpPr>
        <p:spPr>
          <a:xfrm>
            <a:off x="4106520" y="2998080"/>
            <a:ext cx="9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686520" y="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MONITORAGGIO E VALUTAZIONE</a:t>
            </a:r>
            <a:br>
              <a:rPr sz="3200"/>
            </a:b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DI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Costituzione del </a:t>
            </a: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COMITATO NAZIONALE PER L’ISTRUZIONE TECNICA E PROFESSIONALE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articolato in Commissioni di settore, composto da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esperti</a:t>
            </a:r>
            <a:r>
              <a:rPr b="0" lang="it-IT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del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mondo del lavoro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e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delle profession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dell’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università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e della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ricerca;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dirigenti scolastic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e </a:t>
            </a: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docent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espert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designati dalla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Conferenza dei President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delle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Region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e dall’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UP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dal Ministero del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lavoro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della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salute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e delle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politiche social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dal Ministero dello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sviluppo economico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dal Ministero della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gioventù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con funzioni di proposta e consulenza per l’aggiornamento periodico dei percorsi degli istituti tecnici e per la definizione degli indicatori per la valutazione e l’autovalutazione del servizio degli istitu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25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1"/>
          <p:cNvSpPr/>
          <p:nvPr/>
        </p:nvSpPr>
        <p:spPr>
          <a:xfrm>
            <a:off x="684360" y="109440"/>
            <a:ext cx="503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I nuovi Istituti Tecnici 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Calibri"/>
              </a:rPr>
              <a:t>- Avvert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7"/>
          <p:cNvGrpSpPr/>
          <p:nvPr/>
        </p:nvGrpSpPr>
        <p:grpSpPr>
          <a:xfrm>
            <a:off x="7715160" y="0"/>
            <a:ext cx="1295640" cy="1129320"/>
            <a:chOff x="7715160" y="0"/>
            <a:chExt cx="1295640" cy="1129320"/>
          </a:xfrm>
        </p:grpSpPr>
        <p:pic>
          <p:nvPicPr>
            <p:cNvPr id="12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31160" y="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9"/>
            <p:cNvSpPr/>
            <p:nvPr/>
          </p:nvSpPr>
          <p:spPr>
            <a:xfrm>
              <a:off x="7715160" y="79200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"/>
          <p:cNvSpPr/>
          <p:nvPr/>
        </p:nvSpPr>
        <p:spPr>
          <a:xfrm>
            <a:off x="214200" y="954000"/>
            <a:ext cx="89298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Le slide che seguono presentano lo schema di Regolamento approvato in prima lettura dal Consiglio dei Ministri (CDM) il 28 maggio 2009; esaminato dal CNP il 22 luglio 2009, dalla Conferenza unificata Stato Regioni il 29 ottobre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Questa fase di </a:t>
            </a:r>
            <a:r>
              <a:rPr b="0" i="1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“Dialogo con la scuola” </a:t>
            </a: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e i pareri obbligatori (Consiglio di Stato e Commissioni parlamenta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Calibri"/>
              </a:rPr>
              <a:t>contribuiranno a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Calibri"/>
              </a:rPr>
              <a:t>integrare e modificare</a:t>
            </a:r>
            <a:br>
              <a:rPr sz="1800"/>
            </a:b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il testo che andrà in approvazione defin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L’iter legislativo prevede successivamen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Approvazione definitiva da parte del C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Firma da parte del Capo dello Sta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Registrazione da parte della Corte dei Co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Pubblicazione sulla Gazzetta Ufficiale della Repubbl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ETTORE ECONOMICO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 </a:t>
            </a:r>
            <a:br>
              <a:rPr sz="20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GENERALI COMUNI AGLI INDIRIZZI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9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0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1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2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3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4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5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6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269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63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65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74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57120" y="1736640"/>
          <a:ext cx="8344080" cy="4978440"/>
        </p:xfrm>
        <a:graphic>
          <a:graphicData uri="http://schemas.openxmlformats.org/drawingml/2006/table">
            <a:tbl>
              <a:tblPr/>
              <a:tblGrid>
                <a:gridCol w="3238560"/>
                <a:gridCol w="1008000"/>
                <a:gridCol w="936720"/>
                <a:gridCol w="954000"/>
                <a:gridCol w="1100160"/>
                <a:gridCol w="110664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e letteratura italiana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inglese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toria, Cittadinanza e Costituzione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atematica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ritto ed economia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Scienze della Terra e Biologia)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motorie e sportive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RC o attivit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alternativ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gener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 a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MMINISTRAZIONE, FINANZA E MARKETING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 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286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35"/>
          <p:cNvSpPr/>
          <p:nvPr/>
        </p:nvSpPr>
        <p:spPr>
          <a:xfrm>
            <a:off x="6059520" y="160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37"/>
          <p:cNvSpPr/>
          <p:nvPr/>
        </p:nvSpPr>
        <p:spPr>
          <a:xfrm>
            <a:off x="6075360" y="1803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>
            <a:off x="5054760" y="97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5070600" y="129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2"/>
          <p:cNvSpPr/>
          <p:nvPr/>
        </p:nvSpPr>
        <p:spPr>
          <a:xfrm>
            <a:off x="5133960" y="2612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250920" y="1700280"/>
            <a:ext cx="8686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in Amministrazione, Finanza e Marketing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ha competenze specifiche nel campo dei macro-fenomeni economici nazionali ed internazionali, della normativa civilistica e fiscale, dei sistemi aziendali (organizzazione, pianificazione, programmazione, amministrazione, finanza e controllo) degli strumenti di marketing, dei prodotti assicurativo-finanziari e dell’economia sociale.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ntegra  le competenze dell’ambito professionale specifico con quelle linguistiche e informatiche per operare  nel sistema informativo dell’azienda e contribuire sia all’innovazione sia al miglioramento organizzativo e tecnologico dell’impresa.</a:t>
            </a:r>
            <a:br>
              <a:rPr sz="1200"/>
            </a:br>
            <a:br>
              <a:rPr sz="8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E’ in grado di:</a:t>
            </a:r>
            <a:br>
              <a:rPr sz="12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 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partecipare al lavoro organizzato e di gruppo con responsabilità e contributo personal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operare con flessibilità in vari contesti affrontando il cambiament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operare per obiettivi e per progett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documentare opportunamente il proprio lavor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individuare, selezionare e gestire le fonti di informazion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elaborare, interpretare e rappresentare dati con il ricorso a strumenti informatic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operare con una visione trasversale e sistemica;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comunicare con linguaggi appropriati e con codici divers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comunicare in due lingue straniere anche su argomenti tecnici.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n particolare, è in grado di assumere ruoli e funzioni relative a: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rilevazione dei fenomeni gestionali utilizzando metodi, strumenti, tecniche contabili ed extracontabi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trattamenti contabili in linea con i principi nazionali ed internazion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adempimenti di natura fiscale (imposte dirette ed indirette, contributi)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trattative contrattuali riferite alle diverse aree funzionali dell’aziend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lettura, redazione e interpretazione dei documenti contabili e finanziari aziend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controllo della gestione;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reporting di analisi e di sintesi;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utilizzo di tecnologie e programmi informatici dedicati alla gestione amministrativo/finanzi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MMINISTRAZIONE, FINANZA E MARKETING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 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310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35"/>
          <p:cNvSpPr/>
          <p:nvPr/>
        </p:nvSpPr>
        <p:spPr>
          <a:xfrm>
            <a:off x="6059520" y="160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37"/>
          <p:cNvSpPr/>
          <p:nvPr/>
        </p:nvSpPr>
        <p:spPr>
          <a:xfrm>
            <a:off x="6075360" y="1803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2"/>
          <p:cNvSpPr/>
          <p:nvPr/>
        </p:nvSpPr>
        <p:spPr>
          <a:xfrm>
            <a:off x="5054760" y="97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3"/>
          <p:cNvSpPr/>
          <p:nvPr/>
        </p:nvSpPr>
        <p:spPr>
          <a:xfrm>
            <a:off x="5070600" y="129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4"/>
          <p:cNvSpPr/>
          <p:nvPr/>
        </p:nvSpPr>
        <p:spPr>
          <a:xfrm>
            <a:off x="5133960" y="2612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68360" y="1557360"/>
          <a:ext cx="8136000" cy="4649760"/>
        </p:xfrm>
        <a:graphic>
          <a:graphicData uri="http://schemas.openxmlformats.org/drawingml/2006/table">
            <a:tbl>
              <a:tblPr/>
              <a:tblGrid>
                <a:gridCol w="3206880"/>
                <a:gridCol w="1066680"/>
                <a:gridCol w="982440"/>
                <a:gridCol w="901800"/>
                <a:gridCol w="682560"/>
                <a:gridCol w="398520"/>
                <a:gridCol w="89712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Chim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a lingua comunitaria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ografia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nformatica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conomia aziendale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ritto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conomia politica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à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 a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à e insegnamenti facoltativi nel settore econom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3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333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6059520" y="160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1"/>
          <p:cNvSpPr/>
          <p:nvPr/>
        </p:nvSpPr>
        <p:spPr>
          <a:xfrm>
            <a:off x="6075360" y="1803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77920" y="333360"/>
            <a:ext cx="8866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TURISMO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 </a:t>
            </a: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73"/>
          <p:cNvSpPr/>
          <p:nvPr/>
        </p:nvSpPr>
        <p:spPr>
          <a:xfrm>
            <a:off x="6059520" y="1440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75"/>
          <p:cNvSpPr/>
          <p:nvPr/>
        </p:nvSpPr>
        <p:spPr>
          <a:xfrm>
            <a:off x="6075360" y="1639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"/>
          <p:cNvSpPr/>
          <p:nvPr/>
        </p:nvSpPr>
        <p:spPr>
          <a:xfrm>
            <a:off x="5297400" y="38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>
            <a:off x="5313240" y="36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6"/>
          <p:cNvSpPr/>
          <p:nvPr/>
        </p:nvSpPr>
        <p:spPr>
          <a:xfrm>
            <a:off x="5297400" y="204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7"/>
          <p:cNvSpPr/>
          <p:nvPr/>
        </p:nvSpPr>
        <p:spPr>
          <a:xfrm>
            <a:off x="5313240" y="528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250920" y="1052640"/>
            <a:ext cx="87138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nel Turismo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ha competenze specifiche nel campo dei macrofenomeni economici nazionali ed internazionali, della normativa civilistica e fiscale, oltre a competenze specifiche nel comparto delle aziende del settore turist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Opera nel sistema produttivo con particolare attenzione alla valorizzazione e fruizione del patrimonio paesaggistico, artistico, culturale, artigianale, enogastronomi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ntegra le competenze dell’ambito gestionale e della produzione di servizi/prodotti turistici con quelle linguistiche e informatiche per operare nel sistema informativo dell’azienda e contribuire sia all’innovazione sia al miglioramento organizzativo e tecnologico dell’impr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Opera con competenza ed autonomia  nelle diverse tipologie di imprese turisti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E’ in grado d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collaborare nella gestione organizzativa dei servizi secondo parametri di efficienza, efficacia e qualità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sprimere le proprie competenze nel lavoro organizzato e di gruppo con responsabilità e propositivo contributo persona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re con flessibilità in vari contesti sapendo affrontare il cambiamen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re per obiettivi e per progett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documentare opportunamente il proprio lavor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individuare, selezionare e gestire le fonti di informazion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laborare, interpretare e rappresentare efficacemente dati con il ricorso a strumenti informatici  e software gestional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re con visione non settoriale e sistemic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municare con linguaggi appropriati e con codici divers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comunicare in tre lingue stranie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operare nella produzione e gestione di servizi e/o prodotti turistici, con particolare attenzione alla valorizzazione del territori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definire con soggetti pubblici e privati l’immagine turistica del territorio e i piani di qualificazione per lo sviluppo dell’offerta integr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analizzare le tendenze del mercato e proporre opportune politiche di marketing, rispetto a specifiche tipologie di imprese turistic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avvalersi di tecniche di comunicazione multimediale per la proozione del turismo integra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360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6059520" y="160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>
            <a:off x="6075360" y="1803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243000" y="476280"/>
            <a:ext cx="8866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TURISMO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 </a:t>
            </a: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73"/>
          <p:cNvSpPr/>
          <p:nvPr/>
        </p:nvSpPr>
        <p:spPr>
          <a:xfrm>
            <a:off x="6059520" y="1440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75"/>
          <p:cNvSpPr/>
          <p:nvPr/>
        </p:nvSpPr>
        <p:spPr>
          <a:xfrm>
            <a:off x="6075360" y="1639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4"/>
          <p:cNvSpPr/>
          <p:nvPr/>
        </p:nvSpPr>
        <p:spPr>
          <a:xfrm>
            <a:off x="5297400" y="38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5"/>
          <p:cNvSpPr/>
          <p:nvPr/>
        </p:nvSpPr>
        <p:spPr>
          <a:xfrm>
            <a:off x="5313240" y="36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6"/>
          <p:cNvSpPr/>
          <p:nvPr/>
        </p:nvSpPr>
        <p:spPr>
          <a:xfrm>
            <a:off x="5297400" y="204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7"/>
          <p:cNvSpPr/>
          <p:nvPr/>
        </p:nvSpPr>
        <p:spPr>
          <a:xfrm>
            <a:off x="5313240" y="528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24000" y="1268280"/>
          <a:ext cx="8351640" cy="5160960"/>
        </p:xfrm>
        <a:graphic>
          <a:graphicData uri="http://schemas.openxmlformats.org/drawingml/2006/table">
            <a:tbl>
              <a:tblPr/>
              <a:tblGrid>
                <a:gridCol w="3801960"/>
                <a:gridCol w="877680"/>
                <a:gridCol w="871560"/>
                <a:gridCol w="928800"/>
                <a:gridCol w="936720"/>
                <a:gridCol w="93492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Chim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ografia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conomia aziendale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nformatica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a lingua comunitaria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rza lingua straniera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cipline turistiche aziend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ografia turistica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ritto e Legislazione turistica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e e Terri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 a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econom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3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ETTORE TECNOLOGICO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 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GENERALI COMUNI AGLI INDIRIZZI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388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29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40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24000" y="1916280"/>
          <a:ext cx="8397720" cy="3873240"/>
        </p:xfrm>
        <a:graphic>
          <a:graphicData uri="http://schemas.openxmlformats.org/drawingml/2006/table">
            <a:tbl>
              <a:tblPr/>
              <a:tblGrid>
                <a:gridCol w="4051080"/>
                <a:gridCol w="839880"/>
                <a:gridCol w="839880"/>
                <a:gridCol w="836640"/>
                <a:gridCol w="849240"/>
                <a:gridCol w="98100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e letteratura italiana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inglese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toria, Cittadinanza e Costituzione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atematica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ritto ed economia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Scienze della Terra e Biologia)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motorie e sportive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RC o attivit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alternativ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gener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 a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ECCANICA, MECCATRONICA ED ENERGIA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0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407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89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00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2"/>
          <p:cNvSpPr/>
          <p:nvPr/>
        </p:nvSpPr>
        <p:spPr>
          <a:xfrm>
            <a:off x="5014800" y="72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3"/>
          <p:cNvSpPr/>
          <p:nvPr/>
        </p:nvSpPr>
        <p:spPr>
          <a:xfrm>
            <a:off x="6524640" y="72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4"/>
          <p:cNvSpPr/>
          <p:nvPr/>
        </p:nvSpPr>
        <p:spPr>
          <a:xfrm>
            <a:off x="5014800" y="87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5"/>
          <p:cNvSpPr/>
          <p:nvPr/>
        </p:nvSpPr>
        <p:spPr>
          <a:xfrm>
            <a:off x="6524640" y="87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179280" y="1413000"/>
            <a:ext cx="8785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11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in Meccanica, Meccatronica ed Energia:</a:t>
            </a:r>
            <a:br>
              <a:rPr sz="1200"/>
            </a:br>
            <a:br>
              <a:rPr sz="1200"/>
            </a:b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-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ha competenze specifiche nel campo dei materiali, nella loro scelta, nei loro trattamenti e  lavorazioni;  inoltre, h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competenze sulle macchine e sui dispositivi utilizzati nelle industrie manifatturiere, agrarie, dei trasporti e dei servizi ne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diversi contesti economic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nelle attività produttive d’interesse, esprime le proprie competenze nella progettazione, costruzione e collaudo dei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dispositivi e dei prodotti e nella realizzazione dei processi produttivi;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 nella manutenzione preventiva e ordinaria e nell’esercizio di sistemi meccanici ed elettromeccanici compless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è in grado di dimensionare, installare e gestire semplici impianti industri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nel campo dei trasporti, può approfondire e specializzare le sue competenze in ordine alla costruzione e manutenzione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ordinaria e straordinaria, dei mezzi terrestri, navali e aere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integra le conoscenze di meccanica, di elettrotecnica, elettronica e dei sistemi informatici dedicati con le nozioni di base d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fisica e chimica, economia e organizzazione;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interviene nell’automazione industriale e nel controllo e conduzione dei processi, rispetto ai quali è in grado di contribuir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’innovazione, all’adeguamento tecnologico e organizzativo delle imprese, per il miglioramento della qualità ed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economicità dei prodotti; elabora cicli di lavorazione, analizzandone e valutandone i cost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relativamente alle tipologie di produzione, interviene nei processi di conversione, gestione ed utilizzo dell’energia e del loro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controllo, per ottimizzare il consumo energetico nel rispetto delle normative sulla tutela dell’ambien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è in grado di operare autonomamente, nell’ambito delle normative vigenti, ai fini della sicurezza sul lavoro e della tute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mbiental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è in grado di pianificare la produzione e la certificazione dei sistemi progettati, descrivendo e documentando il lavoro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svolto, valutando i risultati conseguiti, redigendo istruzioni tecniche e manuali d’us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nosce ed utilizza strumenti di comunicazione efficace e </a:t>
            </a:r>
            <a:r>
              <a:rPr b="0" i="1" lang="it-IT" sz="1200" spc="-1" strike="noStrike">
                <a:solidFill>
                  <a:srgbClr val="00007d"/>
                </a:solidFill>
                <a:latin typeface="Arial"/>
              </a:rPr>
              <a:t>team working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per operare in contesti organizz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egnaposto numero diapositiva 2"/>
          <p:cNvSpPr/>
          <p:nvPr/>
        </p:nvSpPr>
        <p:spPr>
          <a:xfrm>
            <a:off x="6588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ECCANICA, MECCATRONICA ED ENERGIA  (1/2)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 </a:t>
            </a:r>
            <a:br>
              <a:rPr sz="20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324000" y="5734080"/>
            <a:ext cx="8208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432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89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400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4"/>
          <p:cNvSpPr/>
          <p:nvPr/>
        </p:nvSpPr>
        <p:spPr>
          <a:xfrm>
            <a:off x="5014800" y="72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5"/>
          <p:cNvSpPr/>
          <p:nvPr/>
        </p:nvSpPr>
        <p:spPr>
          <a:xfrm>
            <a:off x="6524640" y="72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6"/>
          <p:cNvSpPr/>
          <p:nvPr/>
        </p:nvSpPr>
        <p:spPr>
          <a:xfrm>
            <a:off x="5014800" y="87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7"/>
          <p:cNvSpPr/>
          <p:nvPr/>
        </p:nvSpPr>
        <p:spPr>
          <a:xfrm>
            <a:off x="6524640" y="87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307"/>
          <p:cNvSpPr/>
          <p:nvPr/>
        </p:nvSpPr>
        <p:spPr>
          <a:xfrm>
            <a:off x="4675320" y="604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24000" y="1484280"/>
          <a:ext cx="8353440" cy="399276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458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425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436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324000" y="18900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ECCANICA, MECCATRONICA ED ENERGIA  (2/2)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0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5"/>
          <p:cNvSpPr/>
          <p:nvPr/>
        </p:nvSpPr>
        <p:spPr>
          <a:xfrm>
            <a:off x="4397400" y="31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6"/>
          <p:cNvSpPr/>
          <p:nvPr/>
        </p:nvSpPr>
        <p:spPr>
          <a:xfrm>
            <a:off x="4397400" y="554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395280" y="1197000"/>
          <a:ext cx="8352000" cy="5181480"/>
        </p:xfrm>
        <a:graphic>
          <a:graphicData uri="http://schemas.openxmlformats.org/drawingml/2006/table">
            <a:tbl>
              <a:tblPr/>
              <a:tblGrid>
                <a:gridCol w="3456000"/>
                <a:gridCol w="1008000"/>
                <a:gridCol w="936720"/>
                <a:gridCol w="1008000"/>
                <a:gridCol w="936720"/>
                <a:gridCol w="100656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ECCANICA E MECCATRON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eccanica, macchine ed energia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istemi e automazione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meccaniche di processo e prodotto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egno, progettazione e organizzazione industriale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NERGI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eccanica, macchine ed energia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istemi e automazione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meccaniche di processo e prodotto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mpianti energetici, disegno e progettazione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RASPORTI E LOGISTICA</a:t>
            </a:r>
            <a:br>
              <a:rPr sz="28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487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407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18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615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0"/>
          <p:cNvSpPr/>
          <p:nvPr/>
        </p:nvSpPr>
        <p:spPr>
          <a:xfrm>
            <a:off x="5014800" y="16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31"/>
          <p:cNvSpPr/>
          <p:nvPr/>
        </p:nvSpPr>
        <p:spPr>
          <a:xfrm>
            <a:off x="6524640" y="16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"/>
          <p:cNvSpPr/>
          <p:nvPr/>
        </p:nvSpPr>
        <p:spPr>
          <a:xfrm>
            <a:off x="324000" y="1268280"/>
            <a:ext cx="84452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dei Trasporti e della Logistica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tecniche specifiche e metodi di lavoro funzionali allo svolgimento delle attività inerenti la progettazione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la realizzazione, il mantenimento in efficienza dei mezzi e degli impianti relativi e l’organizzazione di servizi logistic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e conoscenze che, a seconda delle declinazioni di settore scelte dai singoli istituti, riguardano l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diversificate articolazioni del trasport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possiede una cultura sistemica ed è in grado di attivarsi in ciascuno dei segmenti operativi del settore in cui si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specializza e di quelli collater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integra le conoscenze fondamentali relative alle tipologie, strutture e componenti dei mezzi, allo scopo di  garantire il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mantenimento delle condizioni di esercizio richieste dalle norme vigenti in materia di trasport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è  in grado di operare autonomamente nel controllo, nelle regolazioni e riparazioni dei sistemi di bord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sprime le proprie competenze nella pianificazione e nell’organizzazione dei servizi;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applica le tecnologie per l’ammodernamento dei processi produttivi, rispetto ai quali è in grado di contribuir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’innovazione e all’adeguamento tecnologico e organizzativo dell’impres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nell’ambito dell’area Logistica, è in grado di operare nel campo delle infrastrutture, delle modalità di gestione del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traffico e relativa assistenza, delle procedure di spostamento e trasporto, della conduzione del mezzo in rapporto al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tipologia d’interesse, della gestione dell’impresa di trasporti e della logistica nelle sue diverse componenti: corrieri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vettori, operatori di nodo e intermediari logistic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relativamente alle tipologie di intervento, agisce nell’applicazione delle normative nazionali, comunitarie ed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internazionali per la sicurezza dei mezzi, dei servizi e del lavoro nonché del trasporto di merci pericolos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è in grado di esprimere le proprie competenze nella valutazione di impatto ambientale, nella salvaguardi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dell’ambiente e nell’utilizzazione razionale dell’energi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descrive e documenta il lavoro svolto, conosce ed utilizza strumenti di comunicazione efficace e team working per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operare in contesti organizzati</a:t>
            </a: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4760" y="52812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NUOVO IMPIANTO ORGANIZZATI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7"/>
          <p:cNvGrpSpPr/>
          <p:nvPr/>
        </p:nvGrpSpPr>
        <p:grpSpPr>
          <a:xfrm>
            <a:off x="7715160" y="142920"/>
            <a:ext cx="1295640" cy="1129320"/>
            <a:chOff x="7715160" y="142920"/>
            <a:chExt cx="1295640" cy="1129320"/>
          </a:xfrm>
        </p:grpSpPr>
        <p:pic>
          <p:nvPicPr>
            <p:cNvPr id="126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31160" y="14292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9"/>
            <p:cNvSpPr/>
            <p:nvPr/>
          </p:nvSpPr>
          <p:spPr>
            <a:xfrm>
              <a:off x="7715160" y="9349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250920" y="1844640"/>
          <a:ext cx="8642160" cy="4608720"/>
        </p:xfrm>
        <a:graphic>
          <a:graphicData uri="http://schemas.openxmlformats.org/drawingml/2006/table">
            <a:tbl>
              <a:tblPr/>
              <a:tblGrid>
                <a:gridCol w="4105080"/>
                <a:gridCol w="45370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ORE ECONOM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ORE TECNOLO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05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spcBef>
                          <a:spcPts val="312"/>
                        </a:spcBef>
                        <a:spcAft>
                          <a:spcPts val="312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mministrazione, Finanza e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ur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spcBef>
                          <a:spcPts val="312"/>
                        </a:spcBef>
                        <a:spcAft>
                          <a:spcPts val="312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eccanica, Meccatronica ed Ener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rasporti  e Log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lettronica ed Elettrotecn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formatica e Telecomunicazion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Grafica e Comunic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himica, Materiali e Biotecnolog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istema M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graria e Agroindus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struzioni, Ambiente e Territo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0"/>
          <p:cNvSpPr/>
          <p:nvPr/>
        </p:nvSpPr>
        <p:spPr>
          <a:xfrm>
            <a:off x="468360" y="1197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 Black"/>
              </a:rPr>
              <a:t>2 SETTORI - 11 INDIRIZ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FEC1-C30A-4B84-85B0-5E25BE73CA4D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RASPORTI E LOGISTICA  (1/2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40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517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07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418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15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0"/>
          <p:cNvSpPr/>
          <p:nvPr/>
        </p:nvSpPr>
        <p:spPr>
          <a:xfrm>
            <a:off x="5014800" y="16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1"/>
          <p:cNvSpPr/>
          <p:nvPr/>
        </p:nvSpPr>
        <p:spPr>
          <a:xfrm>
            <a:off x="6524640" y="16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80"/>
          <p:cNvSpPr/>
          <p:nvPr/>
        </p:nvSpPr>
        <p:spPr>
          <a:xfrm>
            <a:off x="4873680" y="195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395280" y="1125360"/>
          <a:ext cx="8136000" cy="4846680"/>
        </p:xfrm>
        <a:graphic>
          <a:graphicData uri="http://schemas.openxmlformats.org/drawingml/2006/table">
            <a:tbl>
              <a:tblPr/>
              <a:tblGrid>
                <a:gridCol w="3429000"/>
                <a:gridCol w="771480"/>
                <a:gridCol w="893880"/>
                <a:gridCol w="954000"/>
                <a:gridCol w="738360"/>
                <a:gridCol w="280800"/>
                <a:gridCol w="10684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Chimica)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 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CIPLINE COMUNI ALLE ARTICOLAZIONI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RASPORT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E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OGIST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tecnica, Elettronica e Automazione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ritto ed econom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Rectangle 9"/>
          <p:cNvSpPr/>
          <p:nvPr/>
        </p:nvSpPr>
        <p:spPr>
          <a:xfrm>
            <a:off x="395280" y="6308640"/>
            <a:ext cx="820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RASPORTI E LOGISTICA  (2/2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324000" y="6210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*)  Se l’articolazione “Trasporti” è riferita agli insegnamenti relativi agli apparati e impianti marittimi, il monte ore previsto per “Scienza della navigazione, struttura e costruzione del mezzo” è di 99 ore nel secondo biennio e 132 nell’ultimo anno; il monte ore per “Meccanica e Macchine” è di 165 ore nel secondo biennio e 264 nell’ultimo ann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547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7"/>
          <p:cNvSpPr/>
          <p:nvPr/>
        </p:nvSpPr>
        <p:spPr>
          <a:xfrm>
            <a:off x="5014800" y="798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8"/>
          <p:cNvSpPr/>
          <p:nvPr/>
        </p:nvSpPr>
        <p:spPr>
          <a:xfrm>
            <a:off x="6524640" y="798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9"/>
          <p:cNvSpPr/>
          <p:nvPr/>
        </p:nvSpPr>
        <p:spPr>
          <a:xfrm>
            <a:off x="4898880" y="-258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0"/>
          <p:cNvSpPr/>
          <p:nvPr/>
        </p:nvSpPr>
        <p:spPr>
          <a:xfrm>
            <a:off x="4898880" y="-2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1"/>
          <p:cNvSpPr/>
          <p:nvPr/>
        </p:nvSpPr>
        <p:spPr>
          <a:xfrm>
            <a:off x="4898880" y="11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2"/>
          <p:cNvSpPr/>
          <p:nvPr/>
        </p:nvSpPr>
        <p:spPr>
          <a:xfrm>
            <a:off x="4898880" y="249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250920" y="1285920"/>
          <a:ext cx="8642160" cy="4962600"/>
        </p:xfrm>
        <a:graphic>
          <a:graphicData uri="http://schemas.openxmlformats.org/drawingml/2006/table">
            <a:tbl>
              <a:tblPr/>
              <a:tblGrid>
                <a:gridCol w="3889440"/>
                <a:gridCol w="1008000"/>
                <a:gridCol w="1008000"/>
                <a:gridCol w="863640"/>
                <a:gridCol w="865080"/>
                <a:gridCol w="365040"/>
                <a:gridCol w="642960"/>
              </a:tblGrid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RASPORT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della Navigazione, struttura e costruzione del mezzo *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eccanica e Macchine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ogi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OGIST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della Navigazione e struttura dei mezzi di trasporto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eccanica e Macch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ogi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ELETTRONICA ED ELETTROTECNICA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581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395280" y="1052640"/>
            <a:ext cx="822960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in Elettronica ed Elettrotecnica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ha competenze specifiche nel campo dei materiali e della tecnologia costruttiva dei sistemi elettronici e dell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macchine elettriche, della generazione, elaborazione e trasmissione dei segnali elettrici ed elettronici, dei sistem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per la generazione, conversione e trasporto dell’energia elettrica e dei relativi impianti di distribuzion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nei contesti produttivi d’interesse, esprime le proprie competenze nella progettazione, costruzione e collaudo de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sistemi elettronici e degli impianti elettric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è  in grado di programmare controllori e microprocessori;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opera nell’organizzazione dei servizi e nell’esercizio di sistemi elettrici ed elettronici compless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è in grado di sviluppare e utilizzare sistemi di acquisizione dati, dispositivi, circuiti, apparecchi e apparati elettronici;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conosce le tecniche di controllo e interfaccia  mediante software dedicat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integra conoscenze di elettrotecnica, di elettronica e di informatica per intervenire nell’automazione industriale e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nel controllo dei processi produttivi, rispetto ai quali è in grado di contribuire all’innovazione e all’adeguamento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tecnologico delle imprese, relativamente alle tipologie di produzion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interviene nei processi di conversione dell’energia elettrica, anche di fonte alternativa, e del loro controllo, per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ottimizzare il consumo energetico e adeguare gli impianti e i dispositivi alle normative sulla sicurezz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è in grado di esprimere le proprie competenze, nell’ambito delle normative vigenti, nel mantenimento del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sicurezza sul lavoro e nella tutela ambientale, nonché di intervenire nel miglioramento della qualità dei prodotti 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nell’organizzazione produttiva delle aziende;</a:t>
            </a:r>
            <a:br>
              <a:rPr sz="12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è in grado di pianificare la produzione dei sistemi progettati; descrive e documenta i progetti esecutivi ed il lavoro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svolto, utilizza e redige manuali d’uso; conosce ed utilizza strumenti di comunicazione efficace e team working per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operare in contesti organizz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ELETTRONICA ED ELETTROTECNICA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(1/2)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616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324000" y="1413000"/>
          <a:ext cx="8353440" cy="399240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638" name="Rectangle 9"/>
          <p:cNvSpPr/>
          <p:nvPr/>
        </p:nvSpPr>
        <p:spPr>
          <a:xfrm>
            <a:off x="324000" y="5589720"/>
            <a:ext cx="8351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ELETTRONICA ED ELETTROTECNICA  (2/2)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651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482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483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84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99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704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773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41"/>
          <p:cNvSpPr/>
          <p:nvPr/>
        </p:nvSpPr>
        <p:spPr>
          <a:xfrm>
            <a:off x="3098880" y="461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2"/>
          <p:cNvSpPr/>
          <p:nvPr/>
        </p:nvSpPr>
        <p:spPr>
          <a:xfrm>
            <a:off x="6597720" y="183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43"/>
          <p:cNvSpPr/>
          <p:nvPr/>
        </p:nvSpPr>
        <p:spPr>
          <a:xfrm>
            <a:off x="6597720" y="2658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44"/>
          <p:cNvSpPr/>
          <p:nvPr/>
        </p:nvSpPr>
        <p:spPr>
          <a:xfrm>
            <a:off x="3506760" y="-30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5"/>
          <p:cNvSpPr/>
          <p:nvPr/>
        </p:nvSpPr>
        <p:spPr>
          <a:xfrm>
            <a:off x="6821640" y="1063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46"/>
          <p:cNvSpPr/>
          <p:nvPr/>
        </p:nvSpPr>
        <p:spPr>
          <a:xfrm>
            <a:off x="6821640" y="1887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47"/>
          <p:cNvSpPr/>
          <p:nvPr/>
        </p:nvSpPr>
        <p:spPr>
          <a:xfrm>
            <a:off x="4486320" y="-32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48"/>
          <p:cNvSpPr/>
          <p:nvPr/>
        </p:nvSpPr>
        <p:spPr>
          <a:xfrm>
            <a:off x="4486320" y="57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49"/>
          <p:cNvSpPr/>
          <p:nvPr/>
        </p:nvSpPr>
        <p:spPr>
          <a:xfrm>
            <a:off x="6862680" y="-32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324000" y="1413000"/>
          <a:ext cx="8353440" cy="4754520"/>
        </p:xfrm>
        <a:graphic>
          <a:graphicData uri="http://schemas.openxmlformats.org/drawingml/2006/table">
            <a:tbl>
              <a:tblPr/>
              <a:tblGrid>
                <a:gridCol w="4209840"/>
                <a:gridCol w="758880"/>
                <a:gridCol w="830160"/>
                <a:gridCol w="365400"/>
                <a:gridCol w="509400"/>
                <a:gridCol w="743040"/>
                <a:gridCol w="93672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CIPLINA COMUNE ALLE ARTICOLAZIONI: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N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,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TECN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E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UTOMAZIONE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progettazione di sistemi elettrici ed elettron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I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N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ED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TECN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nica  ed  Elettrotecnica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istemi automatici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UTOMAZIONE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nica  ed  Elettrotecnica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istemi automatici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delle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'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INFORMATICA E TELECOMUNICAZIONI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700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"/>
          <p:cNvSpPr/>
          <p:nvPr/>
        </p:nvSpPr>
        <p:spPr>
          <a:xfrm>
            <a:off x="3240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in Informatica e Telecomunicazioni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specifiche nel campo dei sistemi informatici, dell’elaborazione dell’informazione, delle applicazioni e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tecnologie Web, delle reti e degli apparati di comunicazion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e conoscenze che, a seconda delle declinazioni che le singole scuole vorranno approfondire, s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rivolgono all’analisi, progettazione, installazione e gestione di sistemi informatici, basi di dati,  reti di sistemi di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elaborazione, sistemi multimediali  e apparati di trasmissione dei segn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orientate alla gestione del ciclo di vita delle applicazioni che, sempre a seconda della declinazion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he le singole scuole vorranno approfondire, possono rivolgersi al software: gestionale – orientato ai servizi – per 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sistemi dedicati “incorporati”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sprime le proprie competenze nella gestione di progetti, operando nel quadro di normative nazionali 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internazionali, concernenti la sicurezza in tutte le sue accezioni e la protezione delle informazioni (“privacy”)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è in grado di esprimere le proprie competenze, nell’ambito delle normative vigenti, ai fini della sicurezza sul lavoro 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della tutela ambientale e di intervenire nel miglioramento della qualità dei prodotti  e nell’organizzazione produttiv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delle impres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sprime le proprie competenze nella pianificazione delle attività di produzione dei sistemi, dove applica capacità d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omunicare e interagire efficacemente, sia nella forma scritta che oral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nell’analisi e realizzazione delle soluzioni ha un approccio razionale, concettuale e analitico,  orientato al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raggiungimento dell’obiettivo, che esercita in contesti di lavoro caratterizzati prevalentemente da una gestione in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team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possiede un’elevata conoscenza dell’inglese tecnico specifico del settore per interloquire in un ambito professionale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aratterizzato da forte internazionalizzazione; utilizza e redige manuali d’u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NFORMATICA E TELECOMUNICAZIONI  (1/2)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735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539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540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541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556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761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324000" y="1413000"/>
          <a:ext cx="8353440" cy="399240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768" name="Rectangle 9"/>
          <p:cNvSpPr/>
          <p:nvPr/>
        </p:nvSpPr>
        <p:spPr>
          <a:xfrm>
            <a:off x="324000" y="5589720"/>
            <a:ext cx="8351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780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539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540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541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556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761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"/>
          <p:cNvSpPr/>
          <p:nvPr/>
        </p:nvSpPr>
        <p:spPr>
          <a:xfrm>
            <a:off x="468360" y="-171360"/>
            <a:ext cx="822960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NFORMATICA E TELECOMUNICAZIONI  (2/2)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46"/>
          <p:cNvSpPr/>
          <p:nvPr/>
        </p:nvSpPr>
        <p:spPr>
          <a:xfrm>
            <a:off x="4935600" y="-103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47"/>
          <p:cNvSpPr/>
          <p:nvPr/>
        </p:nvSpPr>
        <p:spPr>
          <a:xfrm>
            <a:off x="4951440" y="-603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48"/>
          <p:cNvSpPr/>
          <p:nvPr/>
        </p:nvSpPr>
        <p:spPr>
          <a:xfrm>
            <a:off x="6757920" y="-103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49"/>
          <p:cNvSpPr/>
          <p:nvPr/>
        </p:nvSpPr>
        <p:spPr>
          <a:xfrm>
            <a:off x="4935600" y="-103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50"/>
          <p:cNvSpPr/>
          <p:nvPr/>
        </p:nvSpPr>
        <p:spPr>
          <a:xfrm>
            <a:off x="4951440" y="-603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51"/>
          <p:cNvSpPr/>
          <p:nvPr/>
        </p:nvSpPr>
        <p:spPr>
          <a:xfrm>
            <a:off x="6757920" y="-103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324000" y="1052640"/>
          <a:ext cx="8642160" cy="5313240"/>
        </p:xfrm>
        <a:graphic>
          <a:graphicData uri="http://schemas.openxmlformats.org/drawingml/2006/table">
            <a:tbl>
              <a:tblPr/>
              <a:tblGrid>
                <a:gridCol w="4465440"/>
                <a:gridCol w="907920"/>
                <a:gridCol w="930600"/>
                <a:gridCol w="753840"/>
                <a:gridCol w="666720"/>
                <a:gridCol w="196920"/>
                <a:gridCol w="72072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CIPLINE COMUNI ALLE ARTICOLAZIONI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NFORMAT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E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LECOMUNICAZION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istemi e reti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progettazione di sistemi informatici e di telecomunicazioni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stione progetto, organizzazione d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mpres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NFORMAT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nformatica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lecomunicazioni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LECOMUNICAZION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nforma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lecomunic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 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GRAFICA E COMUNICAZIONE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832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2"/>
          <p:cNvSpPr/>
          <p:nvPr/>
        </p:nvSpPr>
        <p:spPr>
          <a:xfrm>
            <a:off x="395280" y="1916280"/>
            <a:ext cx="82296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in Grafica e Comunicazione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specifiche nel campo della comunicazione interpersonale e di massa , con particolare riferimento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all’uso di tecnologie per produrl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integra conoscenze di informatica di base e di strumenti hardware e software grafici e multimediali, di sistemi d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omunicazione in rete, di sistemi audiovisivi, fotografici e di stamp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tecniche e sistemistiche che, a seconda delle esigenze del mercato del lavoro e dell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orrispondenti declinazioni, possono rivolgersi: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  <a:ea typeface="Arial"/>
              </a:rPr>
              <a:t>1.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a programmazione ed esecuzione delle operazioni di prestampa e alla gestione e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   all’organizzazione delle operazioni di stampa e post-stamp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  <a:ea typeface="Arial"/>
              </a:rPr>
              <a:t>2.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a realizzazione di ipertesti e presentazioni multimedi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  <a:ea typeface="Arial"/>
              </a:rPr>
              <a:t>3.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a realizzazione fotografica e audiovisiv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  <a:ea typeface="Arial"/>
              </a:rPr>
              <a:t>4.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a realizzazione e gestione di sistemi software di comunicazione in re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sa gestire progetti, inserirsi in attività di azienda, operare nell’ambito delle norme di sicurezz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nosce ed utilizza strumenti di comunicazione efficace e team working per operare in contesti organizz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GRAFICA E COMUNICAZIONE  (1/2)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0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865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504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505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506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521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395280" y="1857240"/>
          <a:ext cx="8353440" cy="3992760"/>
        </p:xfrm>
        <a:graphic>
          <a:graphicData uri="http://schemas.openxmlformats.org/drawingml/2006/table">
            <a:tbl>
              <a:tblPr/>
              <a:tblGrid>
                <a:gridCol w="3254400"/>
                <a:gridCol w="1100160"/>
                <a:gridCol w="1006560"/>
                <a:gridCol w="1022400"/>
                <a:gridCol w="93312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907" name="Rectangle 9"/>
          <p:cNvSpPr/>
          <p:nvPr/>
        </p:nvSpPr>
        <p:spPr>
          <a:xfrm>
            <a:off x="395280" y="5929200"/>
            <a:ext cx="835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4760" y="185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IDENTITÀ ISTITUTI TEC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21844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Rafforzare l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ultura scientifica e tecnic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attravers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7715160" y="142920"/>
            <a:ext cx="1295640" cy="1129320"/>
            <a:chOff x="7715160" y="142920"/>
            <a:chExt cx="1295640" cy="1129320"/>
          </a:xfrm>
        </p:grpSpPr>
        <p:pic>
          <p:nvPicPr>
            <p:cNvPr id="13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31160" y="14292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9"/>
            <p:cNvSpPr/>
            <p:nvPr/>
          </p:nvSpPr>
          <p:spPr>
            <a:xfrm>
              <a:off x="7715160" y="9349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ttangolo 7"/>
          <p:cNvSpPr/>
          <p:nvPr/>
        </p:nvSpPr>
        <p:spPr>
          <a:xfrm>
            <a:off x="42782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52560" y="2637000"/>
          <a:ext cx="7237440" cy="3538440"/>
        </p:xfrm>
        <a:graphic>
          <a:graphicData uri="http://schemas.openxmlformats.org/drawingml/2006/table">
            <a:tbl>
              <a:tblPr/>
              <a:tblGrid>
                <a:gridCol w="1035000"/>
                <a:gridCol w="6202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ATEMA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CIENZE E TECNOLOG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NGUA INGLESE</a:t>
                      </a:r>
                      <a:br>
                        <a:rPr sz="2800"/>
                      </a:b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con possibilità di introdurre insegnamento</a:t>
                      </a:r>
                      <a:br>
                        <a:rPr sz="2000"/>
                      </a:b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 1 disciplina tecnica in lingua ingles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22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918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9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489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490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491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506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2"/>
          <p:cNvSpPr/>
          <p:nvPr/>
        </p:nvSpPr>
        <p:spPr>
          <a:xfrm>
            <a:off x="17928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GRAFICA E COMUNICAZIONE  (2/2)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0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58"/>
          <p:cNvSpPr/>
          <p:nvPr/>
        </p:nvSpPr>
        <p:spPr>
          <a:xfrm>
            <a:off x="4935600" y="4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59"/>
          <p:cNvSpPr/>
          <p:nvPr/>
        </p:nvSpPr>
        <p:spPr>
          <a:xfrm>
            <a:off x="4951440" y="474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60"/>
          <p:cNvSpPr/>
          <p:nvPr/>
        </p:nvSpPr>
        <p:spPr>
          <a:xfrm>
            <a:off x="6757920" y="4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250920" y="1773360"/>
          <a:ext cx="8353440" cy="3889080"/>
        </p:xfrm>
        <a:graphic>
          <a:graphicData uri="http://schemas.openxmlformats.org/drawingml/2006/table">
            <a:tbl>
              <a:tblPr/>
              <a:tblGrid>
                <a:gridCol w="3673440"/>
                <a:gridCol w="1058760"/>
                <a:gridCol w="957240"/>
                <a:gridCol w="936720"/>
                <a:gridCol w="839880"/>
                <a:gridCol w="182520"/>
                <a:gridCol w="7048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oria della comunicazione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Progettazione multimedi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dei processi di produzione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Organizzazione e gestione dei processi produttivi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 tecnici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HIMICA, MATERIALI E BIOTECNOLOGIE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981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2"/>
          <p:cNvSpPr/>
          <p:nvPr/>
        </p:nvSpPr>
        <p:spPr>
          <a:xfrm>
            <a:off x="395280" y="1197000"/>
            <a:ext cx="82296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in Chimica, Materiali e Biotecnologie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specifiche nel campo dei materiali, delle analisi chimico-biologiche, nei processi di produzione, in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relazione alle esigenze delle realtà territoriali, negli ambiti chimico, merceologico, biologico, farmaceutico, tintorio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onciario, cartario, materie plastiche, metallurgico, minerario, ambientale, biotecnologico e microbiologico, nell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analisi chimico-biologiche e ambientali, relative al controllo igienico-sanitario e al controllo e monitoraggio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dell’ambien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nel settore della prevenzione e della gestione di situazioni a rischio sanitario, all’interno del sistema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sociale e/o ambiental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- nei contesti produttivi d’interesse, esprime le proprie competenze nella gestione e nel controllo dei processi, nel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gestione e manutenzione di impianti chimici, tecnologici e biotecnologici, partecipando alla risoluzione dell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problematiche relative agli stessi; ha competenze per l’analisi e il controllo dei reflui, nel rispetto delle normativ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per la tutela ambiental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integra competenze di chimica, di biologia e microbiologia, di impianti e di processi chimici e biotecnologici, d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organizzazione e automazione industriale, per contribuire all’innovazione dei processi e delle relative procedure d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gestione e di controllo, per il sistematico adeguamento tecnologico e organizzativo delle impres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noscenze specifiche in merito alla gestione della sicurezza degli ambienti di lavoro, del miglioramento del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qualità dei prodotti, dei processi e dei serviz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per la pianificazione, gestione e controllo delle attività di laboratorio di analisi e, nello sviluppo del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processo e del prodotto, è in grado di verificare la corrispondenza del prodotto alle specifiche dichiarate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applicando le procedure e i protocolli dell’area di competenza, controllarne il ciclo di produzione utilizzando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software dedicati sia alle tecniche di analisi di laboratorio sia al controllo e gestione degli impiant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esprime le proprie competenze nella pianificazione delle attività aziendali, relaziona e documenta le attività svol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nosce ed utilizza strumenti di comunicazione efficace e </a:t>
            </a:r>
            <a:r>
              <a:rPr b="0" i="1" lang="it-IT" sz="1200" spc="-1" strike="noStrike">
                <a:solidFill>
                  <a:srgbClr val="00007d"/>
                </a:solidFill>
                <a:latin typeface="Arial"/>
              </a:rPr>
              <a:t>team working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per operare in contesti organizz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HIMICA, MATERIALI E BIOTECNOLOGIE  (1/3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015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493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504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324000" y="1413000"/>
          <a:ext cx="8353440" cy="399240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063" name="Rectangle 9"/>
          <p:cNvSpPr/>
          <p:nvPr/>
        </p:nvSpPr>
        <p:spPr>
          <a:xfrm>
            <a:off x="324000" y="5589720"/>
            <a:ext cx="8351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075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493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504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2"/>
          <p:cNvSpPr/>
          <p:nvPr/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HIMICA, MATERIALI E BIOTECNOLOGIE  (2/3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61"/>
          <p:cNvSpPr/>
          <p:nvPr/>
        </p:nvSpPr>
        <p:spPr>
          <a:xfrm>
            <a:off x="4913280" y="123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62"/>
          <p:cNvSpPr/>
          <p:nvPr/>
        </p:nvSpPr>
        <p:spPr>
          <a:xfrm>
            <a:off x="4929120" y="552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63"/>
          <p:cNvSpPr/>
          <p:nvPr/>
        </p:nvSpPr>
        <p:spPr>
          <a:xfrm>
            <a:off x="6632640" y="123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64"/>
          <p:cNvSpPr/>
          <p:nvPr/>
        </p:nvSpPr>
        <p:spPr>
          <a:xfrm>
            <a:off x="6632640" y="105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65"/>
          <p:cNvSpPr/>
          <p:nvPr/>
        </p:nvSpPr>
        <p:spPr>
          <a:xfrm>
            <a:off x="6632640" y="121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66"/>
          <p:cNvSpPr/>
          <p:nvPr/>
        </p:nvSpPr>
        <p:spPr>
          <a:xfrm>
            <a:off x="6632640" y="1819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67"/>
          <p:cNvSpPr/>
          <p:nvPr/>
        </p:nvSpPr>
        <p:spPr>
          <a:xfrm>
            <a:off x="6632640" y="2095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0" name=""/>
          <p:cNvGraphicFramePr/>
          <p:nvPr/>
        </p:nvGraphicFramePr>
        <p:xfrm>
          <a:off x="324000" y="1557360"/>
          <a:ext cx="8137440" cy="4192560"/>
        </p:xfrm>
        <a:graphic>
          <a:graphicData uri="http://schemas.openxmlformats.org/drawingml/2006/table">
            <a:tbl>
              <a:tblPr/>
              <a:tblGrid>
                <a:gridCol w="3244680"/>
                <a:gridCol w="1076400"/>
                <a:gridCol w="1012680"/>
                <a:gridCol w="866880"/>
                <a:gridCol w="928800"/>
                <a:gridCol w="1008000"/>
              </a:tblGrid>
              <a:tr h="276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E MATERIAL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analitica e strumentale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organica e bio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chimiche e biotecnologie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E BIOTECNOLOGIE AMBIENTAL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analitica e stru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organica e bio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chimiche e biotecnologie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Fisica ambientale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138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493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04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"/>
          <p:cNvSpPr/>
          <p:nvPr/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HIMICA, MATERIALI E BIOTECNOLOGIE  (3/3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7"/>
          <p:cNvSpPr/>
          <p:nvPr/>
        </p:nvSpPr>
        <p:spPr>
          <a:xfrm>
            <a:off x="4821120" y="26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8"/>
          <p:cNvSpPr/>
          <p:nvPr/>
        </p:nvSpPr>
        <p:spPr>
          <a:xfrm>
            <a:off x="4836960" y="68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9"/>
          <p:cNvSpPr/>
          <p:nvPr/>
        </p:nvSpPr>
        <p:spPr>
          <a:xfrm>
            <a:off x="6540480" y="26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60"/>
          <p:cNvSpPr/>
          <p:nvPr/>
        </p:nvSpPr>
        <p:spPr>
          <a:xfrm>
            <a:off x="6540480" y="1193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1"/>
          <p:cNvSpPr/>
          <p:nvPr/>
        </p:nvSpPr>
        <p:spPr>
          <a:xfrm>
            <a:off x="6540480" y="1355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2"/>
          <p:cNvSpPr/>
          <p:nvPr/>
        </p:nvSpPr>
        <p:spPr>
          <a:xfrm>
            <a:off x="4695840" y="47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3"/>
          <p:cNvSpPr/>
          <p:nvPr/>
        </p:nvSpPr>
        <p:spPr>
          <a:xfrm>
            <a:off x="4711680" y="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3" name=""/>
          <p:cNvGraphicFramePr/>
          <p:nvPr/>
        </p:nvGraphicFramePr>
        <p:xfrm>
          <a:off x="324000" y="1557360"/>
          <a:ext cx="8440560" cy="4986360"/>
        </p:xfrm>
        <a:graphic>
          <a:graphicData uri="http://schemas.openxmlformats.org/drawingml/2006/table">
            <a:tbl>
              <a:tblPr/>
              <a:tblGrid>
                <a:gridCol w="3182760"/>
                <a:gridCol w="1073160"/>
                <a:gridCol w="995400"/>
                <a:gridCol w="1058760"/>
                <a:gridCol w="901800"/>
                <a:gridCol w="12286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E BIOTECNOLOGIE SANITARIE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analitica e stru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organica e bio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chimiche e biotecnologie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giene, Anatomia, Fisiologia, Pat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egislazione sanit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ISTEMA MODA 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207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8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9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2"/>
          <p:cNvSpPr/>
          <p:nvPr/>
        </p:nvSpPr>
        <p:spPr>
          <a:xfrm>
            <a:off x="428760" y="1557360"/>
            <a:ext cx="83581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400" spc="-1" strike="noStrike">
                <a:solidFill>
                  <a:srgbClr val="00007d"/>
                </a:solidFill>
                <a:latin typeface="Arial"/>
              </a:rPr>
              <a:t>Perito nell’Indirizzo Sistema Moda</a:t>
            </a: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ha competenze specifiche nell’ambito delle diverse realtà ideativo-creative, progettuali, produttive e di marketing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   del settore tessile, abbigliamento, calzatura, accessori e moda;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nei diversi contesti d’impiego, con riferimento alle specifiche esigenze, è in grado di assumere ruoli e funzioni di ideazione, progettazione e produzione di filati, tessuti, confezioni, calzature e accessori, di organizzazione, gestione e controllo della qualità delle materie prime e dei prodotti finiti; 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relativamente alle diverse tipologie di processi produttivi, interviene nella gestione e nel controllo degli stessi per migliorare qualità e sicurezza dei prodotti;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applica le normative sulla tutela dell’ambiente, sulla sicurezza dei luoghi di lavoro e degli impianti;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integra la sua preparazione con competenze trasversali di filiera che gli consentono sensibilità e capacità di lettura delle problematiche dell’area sistema-moda;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relativamente alle strategie aziendali, opera in termini di individuazione di strategie innovative di processo, di prodotto e di marketing; contribuisce all’innovazione creativa, produttiva e organizzativa delle aziende del settore moda;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esprime le proprie competenze nella pianificazione delle attività aziendali, relaziona e documenta le attività svolte; 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conosce ed utilizza strumenti di comunicazione efficace e team working per operare in contesti organizzat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241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2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3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587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589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601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10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2"/>
          <p:cNvSpPr/>
          <p:nvPr/>
        </p:nvSpPr>
        <p:spPr>
          <a:xfrm>
            <a:off x="39528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SISTEMA MODA (1/2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324000" y="1413000"/>
          <a:ext cx="8353440" cy="399240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294" name="Rectangle 9"/>
          <p:cNvSpPr/>
          <p:nvPr/>
        </p:nvSpPr>
        <p:spPr>
          <a:xfrm>
            <a:off x="324000" y="5589720"/>
            <a:ext cx="8351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304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5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87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9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601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910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2"/>
          <p:cNvSpPr/>
          <p:nvPr/>
        </p:nvSpPr>
        <p:spPr>
          <a:xfrm>
            <a:off x="39528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SISTEMA MODA (2/2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3"/>
          <p:cNvSpPr/>
          <p:nvPr/>
        </p:nvSpPr>
        <p:spPr>
          <a:xfrm>
            <a:off x="4913280" y="-747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4"/>
          <p:cNvSpPr/>
          <p:nvPr/>
        </p:nvSpPr>
        <p:spPr>
          <a:xfrm>
            <a:off x="4929120" y="-318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5"/>
          <p:cNvSpPr/>
          <p:nvPr/>
        </p:nvSpPr>
        <p:spPr>
          <a:xfrm>
            <a:off x="6632640" y="-747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6"/>
          <p:cNvSpPr/>
          <p:nvPr/>
        </p:nvSpPr>
        <p:spPr>
          <a:xfrm>
            <a:off x="6632640" y="185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7"/>
          <p:cNvSpPr/>
          <p:nvPr/>
        </p:nvSpPr>
        <p:spPr>
          <a:xfrm>
            <a:off x="6632640" y="900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8"/>
          <p:cNvSpPr/>
          <p:nvPr/>
        </p:nvSpPr>
        <p:spPr>
          <a:xfrm>
            <a:off x="6632640" y="1728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324000" y="1341360"/>
          <a:ext cx="8353440" cy="5011920"/>
        </p:xfrm>
        <a:graphic>
          <a:graphicData uri="http://schemas.openxmlformats.org/drawingml/2006/table">
            <a:tbl>
              <a:tblPr/>
              <a:tblGrid>
                <a:gridCol w="4719600"/>
                <a:gridCol w="752400"/>
                <a:gridCol w="647640"/>
                <a:gridCol w="792360"/>
                <a:gridCol w="687240"/>
                <a:gridCol w="754200"/>
              </a:tblGrid>
              <a:tr h="307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CIPLINE COMUNI ALLE ARTICOLAZIONI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SSILE, ABBIGLIAMENTO E MOD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 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ALZATURE E MOD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applicata e nobilitazione dei materiali per i prodotti m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conomia e marketing delle aziende della m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SSILE, ABBIGLIAMENTO E MOD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dei materiali e dei processi produttivi e organizzativi della m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deazione, progettazione e industrializzazione dei prodotti m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ALZATURE E MOD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dei materiali e dei processi produttivi e organizzativi della m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deazione, progettazione e industrializzazione dei prodotti m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GRARIA E AGROINDUSTRIA 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375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2"/>
          <p:cNvSpPr/>
          <p:nvPr/>
        </p:nvSpPr>
        <p:spPr>
          <a:xfrm>
            <a:off x="179280" y="1341360"/>
            <a:ext cx="87854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nell’Agraria ed Agroindustria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specifiche nel campo dell’organizzazione e della gestione delle attività produttive nei settori vegetale 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nimale, con attenzione alla qualità dei prodotti ed al rispetto dell’ambien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e conoscenze che, a seconda delle articolazioni che le singole scuole vorranno approfondire, si rivolgono al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miglioramento dei prodotti e delle tecniche di trasformazione, alla valorizzazione dei prodotti, con attenzione al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trasparenza e alla tracciabilità, o alla gestione dell’ambiente e del territorio secondo le normative concernenti l’agricoltura;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nell’ambito delle articolazioni previste, esprime le proprie competenze nelle attività di miglioramento genetico dei prodotti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sia vegetali che animali, sulla scorta di competenze nel settore delle biotecnologie agrarie in modo da contribuire a garantire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gli aspetti più significativi delle caratteristiche igieniche ed organolettiche o individua esigenze locali verso il miglioramento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delle situazioni ambientali mediante controlli con opportuni indicatori, protezione dei suoli e delle strutture paesaggistiche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sostegno agli insediamenti e alla vita rural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 nel settore della trasformazione dei prodotti, attivando processi tecnologici e biotecnologici per ottenere qualità ed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economicità dei risultati, gestendo altresì una corretta utilizzazione dei reflui e dei residu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ntrolla  con metodi contabili ed economici le predette attività redigendo documenti contabili, preventivi e consuntiv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economici, rilevando indici di efficienza ed emettendo giudizi di convenienz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sprime le proprie competenze nella pianificazione delle attività aziendali, relaziona e documenta le attività svol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procede ad operazioni di rilievo, di conservazione del catasto, ad interpretazione di carte tematiche, esprimendo le propri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competenze in attività di gestione del territorio; rileva condizioni di disagio ambientale e progetta interventi a protezion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delle zone di rischi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 nelle attività di promozione e commercializzazione dei prodotti agrari ed agroindustriali; esprime le proprie 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ompetenze nella pianificazione delle attività aziendali, relaziona e documenta le attività svol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nosce ed utilizza strumenti di comunicazione efficace e team working per operare in contesti organizzati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7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408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9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0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61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62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Line 63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Line 64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Line 587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Line 589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601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910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1525"/>
          <p:cNvSpPr/>
          <p:nvPr/>
        </p:nvSpPr>
        <p:spPr>
          <a:xfrm>
            <a:off x="51465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Line 1536"/>
          <p:cNvSpPr/>
          <p:nvPr/>
        </p:nvSpPr>
        <p:spPr>
          <a:xfrm>
            <a:off x="70581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Line 1753"/>
          <p:cNvSpPr/>
          <p:nvPr/>
        </p:nvSpPr>
        <p:spPr>
          <a:xfrm>
            <a:off x="7058160" y="268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2"/>
          <p:cNvSpPr/>
          <p:nvPr/>
        </p:nvSpPr>
        <p:spPr>
          <a:xfrm>
            <a:off x="39528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AGRARIA E AGROINDUSTRIA (1/3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7" name=""/>
          <p:cNvGraphicFramePr/>
          <p:nvPr/>
        </p:nvGraphicFramePr>
        <p:xfrm>
          <a:off x="324000" y="1413000"/>
          <a:ext cx="8353440" cy="399240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468" name="Rectangle 9"/>
          <p:cNvSpPr/>
          <p:nvPr/>
        </p:nvSpPr>
        <p:spPr>
          <a:xfrm>
            <a:off x="324000" y="5589720"/>
            <a:ext cx="8351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47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NUOVI MODELLI ORGANIZZA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14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5" name=""/>
          <p:cNvGraphicFramePr/>
          <p:nvPr/>
        </p:nvGraphicFramePr>
        <p:xfrm>
          <a:off x="250920" y="1700280"/>
          <a:ext cx="8642160" cy="4632120"/>
        </p:xfrm>
        <a:graphic>
          <a:graphicData uri="http://schemas.openxmlformats.org/drawingml/2006/table">
            <a:tbl>
              <a:tblPr/>
              <a:tblGrid>
                <a:gridCol w="3457440"/>
                <a:gridCol w="518472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PARTIM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vorire la progettazione didatt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 l’integrazione disciplinare</a:t>
                      </a:r>
                      <a:r>
                        <a:rPr b="1" lang="it-IT" sz="2000" spc="-1" strike="noStrike">
                          <a:solidFill>
                            <a:srgbClr val="c10311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ITATO TECNICO SCIENTIF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n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mposizione paritetic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 docenti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di esperti del mondo del lavoro, delle professioni e della ricerca scientifica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tecnologica.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unzioni consultive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i propost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 organizzazione aree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 indirizzo e utilizzazione degli spazi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 autonomia e flessibilità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FFICIO TECN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ER GLI ISTITUTI DEL SETTORE TECNOLOGIC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n il compito di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rganizzare i laboratori</a:t>
                      </a: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in maniera funzionale, per il loro adeguamento alle innovazioni tecnologiche, alle misure necessarie per la sicurezza delle persone e dell’ambie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21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0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481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2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3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1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2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63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64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587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589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601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910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1525"/>
          <p:cNvSpPr/>
          <p:nvPr/>
        </p:nvSpPr>
        <p:spPr>
          <a:xfrm>
            <a:off x="51465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1536"/>
          <p:cNvSpPr/>
          <p:nvPr/>
        </p:nvSpPr>
        <p:spPr>
          <a:xfrm>
            <a:off x="70581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1753"/>
          <p:cNvSpPr/>
          <p:nvPr/>
        </p:nvSpPr>
        <p:spPr>
          <a:xfrm>
            <a:off x="7058160" y="268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2"/>
          <p:cNvSpPr/>
          <p:nvPr/>
        </p:nvSpPr>
        <p:spPr>
          <a:xfrm>
            <a:off x="39528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AGRARIA E AGROINDUSTRIA (2/3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73"/>
          <p:cNvSpPr/>
          <p:nvPr/>
        </p:nvSpPr>
        <p:spPr>
          <a:xfrm>
            <a:off x="4861080" y="-138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74"/>
          <p:cNvSpPr/>
          <p:nvPr/>
        </p:nvSpPr>
        <p:spPr>
          <a:xfrm>
            <a:off x="4876920" y="29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75"/>
          <p:cNvSpPr/>
          <p:nvPr/>
        </p:nvSpPr>
        <p:spPr>
          <a:xfrm>
            <a:off x="6683400" y="-138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76"/>
          <p:cNvSpPr/>
          <p:nvPr/>
        </p:nvSpPr>
        <p:spPr>
          <a:xfrm>
            <a:off x="6683400" y="79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77"/>
          <p:cNvSpPr/>
          <p:nvPr/>
        </p:nvSpPr>
        <p:spPr>
          <a:xfrm>
            <a:off x="6683400" y="150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78"/>
          <p:cNvSpPr/>
          <p:nvPr/>
        </p:nvSpPr>
        <p:spPr>
          <a:xfrm>
            <a:off x="6683400" y="1785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6" name=""/>
          <p:cNvGraphicFramePr/>
          <p:nvPr/>
        </p:nvGraphicFramePr>
        <p:xfrm>
          <a:off x="395280" y="1557360"/>
          <a:ext cx="8280360" cy="4410000"/>
        </p:xfrm>
        <a:graphic>
          <a:graphicData uri="http://schemas.openxmlformats.org/drawingml/2006/table">
            <a:tbl>
              <a:tblPr/>
              <a:tblGrid>
                <a:gridCol w="3168720"/>
                <a:gridCol w="1079280"/>
                <a:gridCol w="1008360"/>
                <a:gridCol w="1081080"/>
                <a:gridCol w="1049040"/>
                <a:gridCol w="8938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20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CIPLINE COMUNI ALLE ARTICOLAZIONI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PRODUZIONI E TRASFORMAZION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STIONE DELL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MBIENTE E DEL TERRITORIO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Produzioni veget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Produzioni anim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 “PRODUZIONI E TRASFORMAZIONI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rasformazione dei prodot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conomia, estimo, marketing e legisl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nio rur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Biotecnologie agra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stione dell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mbiente e del terri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à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8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559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0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1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61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62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63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64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587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589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601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910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25"/>
          <p:cNvSpPr/>
          <p:nvPr/>
        </p:nvSpPr>
        <p:spPr>
          <a:xfrm>
            <a:off x="51465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36"/>
          <p:cNvSpPr/>
          <p:nvPr/>
        </p:nvSpPr>
        <p:spPr>
          <a:xfrm>
            <a:off x="70581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753"/>
          <p:cNvSpPr/>
          <p:nvPr/>
        </p:nvSpPr>
        <p:spPr>
          <a:xfrm>
            <a:off x="7058160" y="268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2"/>
          <p:cNvSpPr/>
          <p:nvPr/>
        </p:nvSpPr>
        <p:spPr>
          <a:xfrm>
            <a:off x="39528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AGRARIA E AGROINDUSTRIA (3/3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73"/>
          <p:cNvSpPr/>
          <p:nvPr/>
        </p:nvSpPr>
        <p:spPr>
          <a:xfrm>
            <a:off x="4861080" y="-26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74"/>
          <p:cNvSpPr/>
          <p:nvPr/>
        </p:nvSpPr>
        <p:spPr>
          <a:xfrm>
            <a:off x="4876920" y="168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75"/>
          <p:cNvSpPr/>
          <p:nvPr/>
        </p:nvSpPr>
        <p:spPr>
          <a:xfrm>
            <a:off x="6683400" y="-26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76"/>
          <p:cNvSpPr/>
          <p:nvPr/>
        </p:nvSpPr>
        <p:spPr>
          <a:xfrm>
            <a:off x="6683400" y="90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77"/>
          <p:cNvSpPr/>
          <p:nvPr/>
        </p:nvSpPr>
        <p:spPr>
          <a:xfrm>
            <a:off x="6683400" y="117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395280" y="1628640"/>
          <a:ext cx="8291520" cy="4172040"/>
        </p:xfrm>
        <a:graphic>
          <a:graphicData uri="http://schemas.openxmlformats.org/drawingml/2006/table">
            <a:tbl>
              <a:tblPr/>
              <a:tblGrid>
                <a:gridCol w="3772080"/>
                <a:gridCol w="755640"/>
                <a:gridCol w="225360"/>
                <a:gridCol w="936360"/>
                <a:gridCol w="935280"/>
                <a:gridCol w="865080"/>
                <a:gridCol w="801720"/>
              </a:tblGrid>
              <a:tr h="307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STIONE DELL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MBIENTE E DEL TERRITORIO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rasformazione dei prodot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nio rur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conomia, estimo, marketing e  legisl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stione dell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mbiente e del terri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Biotecnologie agra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OSTRUZIONI, AMBIENTE E TERRITORIO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6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637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8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9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2"/>
          <p:cNvSpPr/>
          <p:nvPr/>
        </p:nvSpPr>
        <p:spPr>
          <a:xfrm>
            <a:off x="3240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delle Costruzioni, Ambiente e Territorio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nel campo dei materiali, delle macchine e dei dispositivi utilizzati nelle industrie delle costruzioni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nell'impiego degli strumenti di rilievo, nell'uso dei mezzi informatici per la rappresentazione grafica e per il calcolo,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nella valutazione tecnica ed economica dei beni privati e pubblici esistenti nel territorio e nell’utilizzo ottimale delle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risorse ambient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possiede capacità grafiche e progettuali in campo edilizio e nell’organizzazione del cantiere, nella gestione degl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impianti,  nel rilievo topografico, nella stima di terreni e fabbricati e delle altre componenti del territorio, nei diritt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reali che li riguardano, nell’amministrazione di immobili e nello svolgimento di operazioni catast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nei contesti produttivi d’interesse, esprime le proprie competenze nella progettazione, valutazione e realizzazion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di organismi complessi mentre opera in autonomia nel caso di organismi di modesta entità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 autonomamente nella gestione, nella manutenzione e nell’esercizio di organismi edilizi e nel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organizzazione di cantieri mobili;  relativamente ai fabbricati, interviene nei processi di conversione dell’energia 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del loro controllo; è in grado di prevedere, nell’ambito dell’edilizia eco compatibile, le soluzioni opportune per il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risparmio energetico nel rispetto delle normative sulla tutela dell’ambien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la sua formazione sistemica gli consente di spaziare tra le sue conoscenze fino ad arrivare alla pianificazione ed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a organizzazione di tutte le misure opportune in materia di salvaguardia della salute nei luoghi di vita e di lavor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sprime le proprie competenze nella pianificazione delle attività aziendali, relaziona e documenta le attività svol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nosce ed utilizza strumenti di comunicazione efficace e </a:t>
            </a:r>
            <a:r>
              <a:rPr b="0" i="1" lang="it-IT" sz="1200" spc="-1" strike="noStrike">
                <a:solidFill>
                  <a:srgbClr val="00007d"/>
                </a:solidFill>
                <a:latin typeface="Arial"/>
              </a:rPr>
              <a:t>team working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per operare in contesti organizz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0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671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2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3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61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62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63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Line 64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65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Line 66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Line 67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Line 68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Line 69"/>
          <p:cNvSpPr/>
          <p:nvPr/>
        </p:nvSpPr>
        <p:spPr>
          <a:xfrm>
            <a:off x="51465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Line 70"/>
          <p:cNvSpPr/>
          <p:nvPr/>
        </p:nvSpPr>
        <p:spPr>
          <a:xfrm>
            <a:off x="70581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Line 71"/>
          <p:cNvSpPr/>
          <p:nvPr/>
        </p:nvSpPr>
        <p:spPr>
          <a:xfrm>
            <a:off x="7058160" y="268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Line 529"/>
          <p:cNvSpPr/>
          <p:nvPr/>
        </p:nvSpPr>
        <p:spPr>
          <a:xfrm>
            <a:off x="4449600" y="-19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2"/>
          <p:cNvSpPr/>
          <p:nvPr/>
        </p:nvSpPr>
        <p:spPr>
          <a:xfrm>
            <a:off x="39528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STRUZIONI, AMBIENTE E TERRITORIO (1/2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1" name=""/>
          <p:cNvGraphicFramePr/>
          <p:nvPr/>
        </p:nvGraphicFramePr>
        <p:xfrm>
          <a:off x="324000" y="1413000"/>
          <a:ext cx="8353440" cy="399240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732" name="Rectangle 9"/>
          <p:cNvSpPr/>
          <p:nvPr/>
        </p:nvSpPr>
        <p:spPr>
          <a:xfrm>
            <a:off x="324000" y="5589720"/>
            <a:ext cx="8351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3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744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5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6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61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Line 62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63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Line 64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65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Line 66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67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68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Line 69"/>
          <p:cNvSpPr/>
          <p:nvPr/>
        </p:nvSpPr>
        <p:spPr>
          <a:xfrm>
            <a:off x="51465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70"/>
          <p:cNvSpPr/>
          <p:nvPr/>
        </p:nvSpPr>
        <p:spPr>
          <a:xfrm>
            <a:off x="70581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71"/>
          <p:cNvSpPr/>
          <p:nvPr/>
        </p:nvSpPr>
        <p:spPr>
          <a:xfrm>
            <a:off x="7058160" y="268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Line 529"/>
          <p:cNvSpPr/>
          <p:nvPr/>
        </p:nvSpPr>
        <p:spPr>
          <a:xfrm>
            <a:off x="4449600" y="-19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Rectangle 2"/>
          <p:cNvSpPr/>
          <p:nvPr/>
        </p:nvSpPr>
        <p:spPr>
          <a:xfrm>
            <a:off x="32400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STRUZIONI, AMBIENTE E TERRITORIO (2/2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73"/>
          <p:cNvSpPr/>
          <p:nvPr/>
        </p:nvSpPr>
        <p:spPr>
          <a:xfrm>
            <a:off x="4913280" y="257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74"/>
          <p:cNvSpPr/>
          <p:nvPr/>
        </p:nvSpPr>
        <p:spPr>
          <a:xfrm>
            <a:off x="4929120" y="685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75"/>
          <p:cNvSpPr/>
          <p:nvPr/>
        </p:nvSpPr>
        <p:spPr>
          <a:xfrm>
            <a:off x="6632640" y="257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Line 76"/>
          <p:cNvSpPr/>
          <p:nvPr/>
        </p:nvSpPr>
        <p:spPr>
          <a:xfrm>
            <a:off x="6632640" y="1419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Line 77"/>
          <p:cNvSpPr/>
          <p:nvPr/>
        </p:nvSpPr>
        <p:spPr>
          <a:xfrm>
            <a:off x="6632640" y="1695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Line 78"/>
          <p:cNvSpPr/>
          <p:nvPr/>
        </p:nvSpPr>
        <p:spPr>
          <a:xfrm>
            <a:off x="4913280" y="257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Line 79"/>
          <p:cNvSpPr/>
          <p:nvPr/>
        </p:nvSpPr>
        <p:spPr>
          <a:xfrm>
            <a:off x="4929120" y="685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Line 80"/>
          <p:cNvSpPr/>
          <p:nvPr/>
        </p:nvSpPr>
        <p:spPr>
          <a:xfrm>
            <a:off x="6632640" y="257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Line 81"/>
          <p:cNvSpPr/>
          <p:nvPr/>
        </p:nvSpPr>
        <p:spPr>
          <a:xfrm>
            <a:off x="6632640" y="1419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Line 82"/>
          <p:cNvSpPr/>
          <p:nvPr/>
        </p:nvSpPr>
        <p:spPr>
          <a:xfrm>
            <a:off x="6632640" y="1695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4" name=""/>
          <p:cNvGraphicFramePr/>
          <p:nvPr/>
        </p:nvGraphicFramePr>
        <p:xfrm>
          <a:off x="468360" y="1844640"/>
          <a:ext cx="8209080" cy="3587760"/>
        </p:xfrm>
        <a:graphic>
          <a:graphicData uri="http://schemas.openxmlformats.org/drawingml/2006/table">
            <a:tbl>
              <a:tblPr/>
              <a:tblGrid>
                <a:gridCol w="3600360"/>
                <a:gridCol w="1084320"/>
                <a:gridCol w="825480"/>
                <a:gridCol w="1008000"/>
                <a:gridCol w="754200"/>
                <a:gridCol w="182520"/>
                <a:gridCol w="7542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ettazione, costruzioni e impia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opedologia, Economia ed Est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pograf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stione del cantiere e sicurezza dell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mbiente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4A9A-FA78-476A-9544-84EE567987BE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CasellaDiTesto 2"/>
          <p:cNvSpPr/>
          <p:nvPr/>
        </p:nvSpPr>
        <p:spPr>
          <a:xfrm>
            <a:off x="324000" y="260280"/>
            <a:ext cx="770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 Narrow"/>
                <a:ea typeface="Calibri"/>
              </a:rPr>
              <a:t>SOGGETTA A VARIAZIONI A SEGUITO DEI PARERI ESPRESSI DAGLI ORGANI COMPET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7" name=""/>
          <p:cNvGraphicFramePr/>
          <p:nvPr/>
        </p:nvGraphicFramePr>
        <p:xfrm>
          <a:off x="324000" y="928800"/>
          <a:ext cx="8496000" cy="5906880"/>
        </p:xfrm>
        <a:graphic>
          <a:graphicData uri="http://schemas.openxmlformats.org/drawingml/2006/table">
            <a:tbl>
              <a:tblPr/>
              <a:tblGrid>
                <a:gridCol w="5035320"/>
                <a:gridCol w="34606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I NUOVO ORDINAMENT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COMMERIC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1" i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agioniere e perito commercia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agioniere programma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ito aziendale e corrispondente in lingue este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CONOM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MMINISTRAZION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INANZ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 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PER LE ATTIVITÀ SOCI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cnico per le attività social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rso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conomo dieti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rigente di comuni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PER IL TURIS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ito turis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CONOM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UR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sp>
        <p:nvSpPr>
          <p:cNvPr id="1818" name="Rettangolo 8"/>
          <p:cNvSpPr/>
          <p:nvPr/>
        </p:nvSpPr>
        <p:spPr>
          <a:xfrm>
            <a:off x="243000" y="5254560"/>
            <a:ext cx="8646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Rettangolo 11"/>
          <p:cNvSpPr/>
          <p:nvPr/>
        </p:nvSpPr>
        <p:spPr>
          <a:xfrm>
            <a:off x="712440" y="71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0" name="Group 35"/>
          <p:cNvGrpSpPr/>
          <p:nvPr/>
        </p:nvGrpSpPr>
        <p:grpSpPr>
          <a:xfrm>
            <a:off x="8143920" y="71280"/>
            <a:ext cx="911160" cy="817920"/>
            <a:chOff x="8143920" y="71280"/>
            <a:chExt cx="911160" cy="817920"/>
          </a:xfrm>
        </p:grpSpPr>
        <p:pic>
          <p:nvPicPr>
            <p:cNvPr id="1821" name="Picture 36" descr="miur_colorato_trasparente_piccolo"/>
            <p:cNvPicPr/>
            <p:nvPr/>
          </p:nvPicPr>
          <p:blipFill>
            <a:blip r:embed="rId4"/>
            <a:stretch/>
          </p:blipFill>
          <p:spPr>
            <a:xfrm>
              <a:off x="8295840" y="7128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Text Box 37"/>
            <p:cNvSpPr/>
            <p:nvPr/>
          </p:nvSpPr>
          <p:spPr>
            <a:xfrm>
              <a:off x="8143920" y="62784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BB5B-EA44-449F-AAE3-A8069745D7C5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CasellaDiTesto 2"/>
          <p:cNvSpPr/>
          <p:nvPr/>
        </p:nvSpPr>
        <p:spPr>
          <a:xfrm>
            <a:off x="2847960" y="142920"/>
            <a:ext cx="60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5" name=""/>
          <p:cNvGraphicFramePr/>
          <p:nvPr/>
        </p:nvGraphicFramePr>
        <p:xfrm>
          <a:off x="324000" y="644400"/>
          <a:ext cx="8496000" cy="6191280"/>
        </p:xfrm>
        <a:graphic>
          <a:graphicData uri="http://schemas.openxmlformats.org/drawingml/2006/table">
            <a:tbl>
              <a:tblPr/>
              <a:tblGrid>
                <a:gridCol w="5035320"/>
                <a:gridCol w="34606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    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I NUOVO ORDINAMENT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9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 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1" i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eccanic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rmotecn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nergia nucle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isica industria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ustria ott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etallurgi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aterie plastich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struzioni aeronautich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ustria navalmeccan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CCANICA, MECCATRO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D ENER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NAU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struttori naval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struzioni aeronautich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ustria navalmeccan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ASPORTI E LOGIS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sp>
        <p:nvSpPr>
          <p:cNvPr id="1826" name="Rettangolo 8"/>
          <p:cNvSpPr/>
          <p:nvPr/>
        </p:nvSpPr>
        <p:spPr>
          <a:xfrm>
            <a:off x="243000" y="5254560"/>
            <a:ext cx="8646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Rettangolo 8"/>
          <p:cNvSpPr/>
          <p:nvPr/>
        </p:nvSpPr>
        <p:spPr>
          <a:xfrm>
            <a:off x="630000" y="1303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8" name="Group 35"/>
          <p:cNvGrpSpPr/>
          <p:nvPr/>
        </p:nvGrpSpPr>
        <p:grpSpPr>
          <a:xfrm>
            <a:off x="8286840" y="0"/>
            <a:ext cx="804600" cy="752760"/>
            <a:chOff x="8286840" y="0"/>
            <a:chExt cx="804600" cy="752760"/>
          </a:xfrm>
        </p:grpSpPr>
        <p:pic>
          <p:nvPicPr>
            <p:cNvPr id="1829" name="Picture 36" descr="miur_colorato_trasparente_piccolo"/>
            <p:cNvPicPr/>
            <p:nvPr/>
          </p:nvPicPr>
          <p:blipFill>
            <a:blip r:embed="rId4"/>
            <a:stretch/>
          </p:blipFill>
          <p:spPr>
            <a:xfrm>
              <a:off x="8420760" y="0"/>
              <a:ext cx="473040" cy="47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0" name="Text Box 37"/>
            <p:cNvSpPr/>
            <p:nvPr/>
          </p:nvSpPr>
          <p:spPr>
            <a:xfrm>
              <a:off x="8286840" y="491400"/>
              <a:ext cx="80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2B7F-C3DA-4130-AD01-027A3F7DA93D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CasellaDiTesto 2"/>
          <p:cNvSpPr/>
          <p:nvPr/>
        </p:nvSpPr>
        <p:spPr>
          <a:xfrm>
            <a:off x="2205000" y="374760"/>
            <a:ext cx="60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3" name=""/>
          <p:cNvGraphicFramePr/>
          <p:nvPr/>
        </p:nvGraphicFramePr>
        <p:xfrm>
          <a:off x="324000" y="928800"/>
          <a:ext cx="8534160" cy="5837040"/>
        </p:xfrm>
        <a:graphic>
          <a:graphicData uri="http://schemas.openxmlformats.org/drawingml/2006/table">
            <a:tbl>
              <a:tblPr/>
              <a:tblGrid>
                <a:gridCol w="5057640"/>
                <a:gridCol w="347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6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AERONAU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Navigazione ae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ssistenza alla navigazione ae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ASPORTI E LOGIS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82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NAU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apit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acchini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struttori nav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lettronica e telecomunica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lettrotecnica e autom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LETTRO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D ELETTROTEC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sp>
        <p:nvSpPr>
          <p:cNvPr id="1834" name="Rettangolo 8"/>
          <p:cNvSpPr/>
          <p:nvPr/>
        </p:nvSpPr>
        <p:spPr>
          <a:xfrm>
            <a:off x="243000" y="5254560"/>
            <a:ext cx="8646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ttangolo 8"/>
          <p:cNvSpPr/>
          <p:nvPr/>
        </p:nvSpPr>
        <p:spPr>
          <a:xfrm>
            <a:off x="712440" y="586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6" name="Group 35"/>
          <p:cNvGrpSpPr/>
          <p:nvPr/>
        </p:nvGrpSpPr>
        <p:grpSpPr>
          <a:xfrm>
            <a:off x="8217000" y="71280"/>
            <a:ext cx="911160" cy="817920"/>
            <a:chOff x="8217000" y="71280"/>
            <a:chExt cx="911160" cy="817920"/>
          </a:xfrm>
        </p:grpSpPr>
        <p:pic>
          <p:nvPicPr>
            <p:cNvPr id="1837" name="Picture 36" descr="miur_colorato_trasparente_piccolo"/>
            <p:cNvPicPr/>
            <p:nvPr/>
          </p:nvPicPr>
          <p:blipFill>
            <a:blip r:embed="rId4"/>
            <a:stretch/>
          </p:blipFill>
          <p:spPr>
            <a:xfrm>
              <a:off x="8368920" y="7128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8" name="Text Box 37"/>
            <p:cNvSpPr/>
            <p:nvPr/>
          </p:nvSpPr>
          <p:spPr>
            <a:xfrm>
              <a:off x="8217000" y="62784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F277-6A7E-4B74-99C9-37F8E9A998F3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CasellaDiTesto 2"/>
          <p:cNvSpPr/>
          <p:nvPr/>
        </p:nvSpPr>
        <p:spPr>
          <a:xfrm>
            <a:off x="2633760" y="290520"/>
            <a:ext cx="608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1" name=""/>
          <p:cNvGraphicFramePr/>
          <p:nvPr/>
        </p:nvGraphicFramePr>
        <p:xfrm>
          <a:off x="324000" y="928800"/>
          <a:ext cx="8534160" cy="5835600"/>
        </p:xfrm>
        <a:graphic>
          <a:graphicData uri="http://schemas.openxmlformats.org/drawingml/2006/table">
            <a:tbl>
              <a:tblPr/>
              <a:tblGrid>
                <a:gridCol w="5057640"/>
                <a:gridCol w="347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6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TTRONICA 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lecomunica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forma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FORMATICA 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LECOMUNICAZ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COMMERC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agioniere programma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i fotograf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i grafich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RAFICA E COMUNICA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sp>
        <p:nvSpPr>
          <p:cNvPr id="1842" name="Rettangolo 8"/>
          <p:cNvSpPr/>
          <p:nvPr/>
        </p:nvSpPr>
        <p:spPr>
          <a:xfrm>
            <a:off x="712440" y="71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3" name="Group 35"/>
          <p:cNvGrpSpPr/>
          <p:nvPr/>
        </p:nvGrpSpPr>
        <p:grpSpPr>
          <a:xfrm>
            <a:off x="8217000" y="71280"/>
            <a:ext cx="911160" cy="817920"/>
            <a:chOff x="8217000" y="71280"/>
            <a:chExt cx="911160" cy="817920"/>
          </a:xfrm>
        </p:grpSpPr>
        <p:pic>
          <p:nvPicPr>
            <p:cNvPr id="1844" name="Picture 36" descr="miur_colorato_trasparente_piccolo"/>
            <p:cNvPicPr/>
            <p:nvPr/>
          </p:nvPicPr>
          <p:blipFill>
            <a:blip r:embed="rId4"/>
            <a:stretch/>
          </p:blipFill>
          <p:spPr>
            <a:xfrm>
              <a:off x="8368920" y="7128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5" name="Text Box 37"/>
            <p:cNvSpPr/>
            <p:nvPr/>
          </p:nvSpPr>
          <p:spPr>
            <a:xfrm>
              <a:off x="8217000" y="62784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17E4-0FF6-4E41-A22C-6A8BB31A1A90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CasellaDiTesto 2"/>
          <p:cNvSpPr/>
          <p:nvPr/>
        </p:nvSpPr>
        <p:spPr>
          <a:xfrm>
            <a:off x="2633760" y="290520"/>
            <a:ext cx="60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8" name=""/>
          <p:cNvGraphicFramePr/>
          <p:nvPr/>
        </p:nvGraphicFramePr>
        <p:xfrm>
          <a:off x="324000" y="750960"/>
          <a:ext cx="8534160" cy="6092640"/>
        </p:xfrm>
        <a:graphic>
          <a:graphicData uri="http://schemas.openxmlformats.org/drawingml/2006/table">
            <a:tbl>
              <a:tblPr/>
              <a:tblGrid>
                <a:gridCol w="4890960"/>
                <a:gridCol w="3643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 DI NUOVO ORDINAMEN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2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lettronica </a:t>
                      </a: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him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himico conci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ustria cart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ustria tint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ustria miner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IMICA, MATERIAL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 BIOTECNOLOG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6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PER LE ATTIVITÀ SOCI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li biologico ambient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li biologico sanit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conomo-Dietis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ssi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confezione industri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produzione tessu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segno di tessu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ISTEMA M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sp>
        <p:nvSpPr>
          <p:cNvPr id="1849" name="Rettangolo 8"/>
          <p:cNvSpPr/>
          <p:nvPr/>
        </p:nvSpPr>
        <p:spPr>
          <a:xfrm>
            <a:off x="712440" y="71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Group 35"/>
          <p:cNvGrpSpPr/>
          <p:nvPr/>
        </p:nvGrpSpPr>
        <p:grpSpPr>
          <a:xfrm>
            <a:off x="8217000" y="0"/>
            <a:ext cx="911160" cy="817920"/>
            <a:chOff x="8217000" y="0"/>
            <a:chExt cx="911160" cy="817920"/>
          </a:xfrm>
        </p:grpSpPr>
        <p:pic>
          <p:nvPicPr>
            <p:cNvPr id="1851" name="Picture 36" descr="miur_colorato_trasparente_piccolo"/>
            <p:cNvPicPr/>
            <p:nvPr/>
          </p:nvPicPr>
          <p:blipFill>
            <a:blip r:embed="rId4"/>
            <a:stretch/>
          </p:blipFill>
          <p:spPr>
            <a:xfrm>
              <a:off x="8368920" y="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2" name="Text Box 37"/>
            <p:cNvSpPr/>
            <p:nvPr/>
          </p:nvSpPr>
          <p:spPr>
            <a:xfrm>
              <a:off x="8217000" y="556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5920" y="475920"/>
            <a:ext cx="8362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LA STRUTTURA DEL PERCORSO</a:t>
            </a:r>
            <a:br>
              <a:rPr sz="3200"/>
            </a:b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QUINQUENNAL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868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Il percorso è articolato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2 bienni e 1 quinto anno</a:t>
            </a:r>
            <a:br>
              <a:rPr sz="24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(il secondo biennio e l’ultimo anno costituiscono l’articolazione di un complessivo trienn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Gli apprendimenti sono suddivisi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un’area di insegnamento generale comune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aree di indirizzo specif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151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2"/>
          <p:cNvSpPr/>
          <p:nvPr/>
        </p:nvSpPr>
        <p:spPr>
          <a:xfrm>
            <a:off x="324000" y="765000"/>
            <a:ext cx="8543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59A6-E6DF-40CD-8E04-A42AED291DF6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CasellaDiTesto 2"/>
          <p:cNvSpPr/>
          <p:nvPr/>
        </p:nvSpPr>
        <p:spPr>
          <a:xfrm>
            <a:off x="1531800" y="357120"/>
            <a:ext cx="60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5" name=""/>
          <p:cNvGraphicFramePr/>
          <p:nvPr/>
        </p:nvGraphicFramePr>
        <p:xfrm>
          <a:off x="324000" y="977760"/>
          <a:ext cx="8534160" cy="5737320"/>
        </p:xfrm>
        <a:graphic>
          <a:graphicData uri="http://schemas.openxmlformats.org/drawingml/2006/table">
            <a:tbl>
              <a:tblPr/>
              <a:tblGrid>
                <a:gridCol w="5057640"/>
                <a:gridCol w="3476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 DI NUOVO ORDINAMENT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ssi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confezione industria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produzione tessu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segno di tessu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ISTEMA M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AGR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ito agr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rso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rso viticoltura e en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GRARIA E AGROIND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4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cnologie aliment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6" name="Rettangolo 8"/>
          <p:cNvSpPr/>
          <p:nvPr/>
        </p:nvSpPr>
        <p:spPr>
          <a:xfrm>
            <a:off x="712440" y="71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7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858" name="Picture 36" descr="miur_colorato_trasparente_piccolo"/>
            <p:cNvPicPr/>
            <p:nvPr/>
          </p:nvPicPr>
          <p:blipFill>
            <a:blip r:embed="rId4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9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CasellaDiTesto 2"/>
          <p:cNvSpPr/>
          <p:nvPr/>
        </p:nvSpPr>
        <p:spPr>
          <a:xfrm>
            <a:off x="2000160" y="500040"/>
            <a:ext cx="60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2" name=""/>
          <p:cNvGraphicFramePr/>
          <p:nvPr/>
        </p:nvGraphicFramePr>
        <p:xfrm>
          <a:off x="252360" y="1285920"/>
          <a:ext cx="8534520" cy="3322440"/>
        </p:xfrm>
        <a:graphic>
          <a:graphicData uri="http://schemas.openxmlformats.org/drawingml/2006/table">
            <a:tbl>
              <a:tblPr/>
              <a:tblGrid>
                <a:gridCol w="5058000"/>
                <a:gridCol w="347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diliz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STRUZIONI, AMB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 TERRI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4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PER GEOME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Geome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3" name="Rettangolo 8"/>
          <p:cNvSpPr/>
          <p:nvPr/>
        </p:nvSpPr>
        <p:spPr>
          <a:xfrm>
            <a:off x="712440" y="71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4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865" name="Picture 36" descr="miur_colorato_trasparente_piccolo"/>
            <p:cNvPicPr/>
            <p:nvPr/>
          </p:nvPicPr>
          <p:blipFill>
            <a:blip r:embed="rId3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6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10311"/>
                </a:solidFill>
                <a:latin typeface="Arial"/>
              </a:rPr>
              <a:t>ORDINAMENTO E ORGAN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Gli ordinamenti dei percorsi di studio dei diversi ordini di scuola  (percorsi liceali, di istruzione tecnica e professionale) sono definiti dallo Stato con regolamenti governati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L’organizzazione delle scuole secondarie superiori sul territorio è stabilita, invece, dalle singole Regioni nell’esercizio delle loro esclusive competenze in materia di programmazione dell’offerta forma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7d"/>
                </a:solidFill>
                <a:latin typeface="Arial"/>
              </a:rPr>
              <a:t>(ad esempio, una Regione può stabilire che, per motivi logistici, possano essere compresenti percorsi liceali, percorsi di istruzione tecnica e professionale in un medesimo istituto secondario superiore oppure che i percorsi liceali siano realizzati solo nei licei e i percorsi di istruzione tecnica solo negli istituti tecnici e i percorsi di istruzione professionale solo negli istituti professionali per salvaguardare l’identità dei singoli ordinamen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Text Box 4"/>
          <p:cNvSpPr/>
          <p:nvPr/>
        </p:nvSpPr>
        <p:spPr>
          <a:xfrm>
            <a:off x="1187280" y="333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Rectangle 9"/>
          <p:cNvSpPr/>
          <p:nvPr/>
        </p:nvSpPr>
        <p:spPr>
          <a:xfrm>
            <a:off x="686520" y="71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Text Box 6"/>
          <p:cNvSpPr/>
          <p:nvPr/>
        </p:nvSpPr>
        <p:spPr>
          <a:xfrm>
            <a:off x="8028000" y="260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Group 35"/>
          <p:cNvGrpSpPr/>
          <p:nvPr/>
        </p:nvGrpSpPr>
        <p:grpSpPr>
          <a:xfrm>
            <a:off x="8072280" y="142920"/>
            <a:ext cx="911520" cy="817920"/>
            <a:chOff x="8072280" y="142920"/>
            <a:chExt cx="911520" cy="817920"/>
          </a:xfrm>
        </p:grpSpPr>
        <p:pic>
          <p:nvPicPr>
            <p:cNvPr id="1873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224200" y="142920"/>
              <a:ext cx="53604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4" name="Text Box 37"/>
            <p:cNvSpPr/>
            <p:nvPr/>
          </p:nvSpPr>
          <p:spPr>
            <a:xfrm>
              <a:off x="8072280" y="699480"/>
              <a:ext cx="911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10311"/>
                </a:solidFill>
                <a:latin typeface="Arial"/>
              </a:rPr>
              <a:t>I lavori in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A seguito delle proposte formulate durante l’iter dello schema di regolamento qui presentato, sono allo studio ipotesi di emendamento del testo. Se ne richiamano di seguito alcu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l’inserimento di una articolazione negli istituti tecnici del settore economico ad indirizzo “amministrazione, finanza e marketing” per la “Marketing e relazioni internazionali” per una più organica confluenza degli istituti per periti aziendali e corrispondenti in lingue est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l’inserimento dell’articolazione “Viticoltura ed enologia” nell’indirizzo “Agraria e Agroindustria” negli istituti tecnici del settore tecnolog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E’ cominciato il lavoro di raccolta delle proposte delle scuole, delle associazioni professionali e disciplinari, delle parti sociali per la descrizione dei risultati di apprendimento in termini di competenze, abilità e conoscenze relativi a ciascuno degli indirizzi e delle articolazioni previste dallo schema di regolamento. I documenti prodotti saranno resi disponibili nelle prossime settimane sul sito dell’ANSAS (</a:t>
            </a:r>
            <a:r>
              <a:rPr b="0" lang="it-IT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indire.it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)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Text Box 4"/>
          <p:cNvSpPr/>
          <p:nvPr/>
        </p:nvSpPr>
        <p:spPr>
          <a:xfrm>
            <a:off x="8101080" y="404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Text Box 8"/>
          <p:cNvSpPr/>
          <p:nvPr/>
        </p:nvSpPr>
        <p:spPr>
          <a:xfrm>
            <a:off x="971640" y="18900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Rectangle 9"/>
          <p:cNvSpPr/>
          <p:nvPr/>
        </p:nvSpPr>
        <p:spPr>
          <a:xfrm>
            <a:off x="686520" y="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0" name="Group 35"/>
          <p:cNvGrpSpPr/>
          <p:nvPr/>
        </p:nvGrpSpPr>
        <p:grpSpPr>
          <a:xfrm>
            <a:off x="8072280" y="71280"/>
            <a:ext cx="911520" cy="817920"/>
            <a:chOff x="8072280" y="71280"/>
            <a:chExt cx="911520" cy="817920"/>
          </a:xfrm>
        </p:grpSpPr>
        <p:pic>
          <p:nvPicPr>
            <p:cNvPr id="1881" name="Picture 36" descr="miur_colorato_trasparente_piccolo"/>
            <p:cNvPicPr/>
            <p:nvPr/>
          </p:nvPicPr>
          <p:blipFill>
            <a:blip r:embed="rId2"/>
            <a:stretch/>
          </p:blipFill>
          <p:spPr>
            <a:xfrm>
              <a:off x="8224200" y="71280"/>
              <a:ext cx="53604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2" name="Text Box 37"/>
            <p:cNvSpPr/>
            <p:nvPr/>
          </p:nvSpPr>
          <p:spPr>
            <a:xfrm>
              <a:off x="8072280" y="627840"/>
              <a:ext cx="911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747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PIÙ AUTONOMIA PER LE SCU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28036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88920" indent="0">
              <a:spcBef>
                <a:spcPts val="700"/>
              </a:spcBef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Quote di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 AUTONOMIA e FLESSIBILIT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1272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it-IT" sz="2800" spc="-1" strike="noStrike">
                <a:solidFill>
                  <a:srgbClr val="c10311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20%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di autonomia</a:t>
            </a:r>
            <a:r>
              <a:rPr b="1" lang="it-IT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dal primo biennio al quinto anno, in relazione all’orario complessivo delle lezioni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1272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30 %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di flessibilità </a:t>
            </a:r>
            <a:r>
              <a:rPr b="0" lang="it-IT" sz="2800" spc="-1" strike="noStrike">
                <a:solidFill>
                  <a:srgbClr val="c10311"/>
                </a:solidFill>
                <a:latin typeface="Arial"/>
              </a:rPr>
              <a:t>(opzioni)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nel secondo biennio e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35 %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nel quinto anno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1" lang="it-IT" sz="2800" spc="-1" strike="noStrike" u="sng">
                <a:solidFill>
                  <a:srgbClr val="cc0000"/>
                </a:solidFill>
                <a:uFillTx/>
                <a:latin typeface="Arial"/>
              </a:rPr>
              <a:t>solo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in relazione alle </a:t>
            </a:r>
            <a:r>
              <a:rPr b="1" lang="it-IT" sz="2000" spc="-1" strike="noStrike">
                <a:solidFill>
                  <a:srgbClr val="c10311"/>
                </a:solidFill>
                <a:latin typeface="Arial"/>
              </a:rPr>
              <a:t>AREE di INDIRIZZO</a:t>
            </a:r>
            <a:r>
              <a:rPr b="0" lang="it-IT" sz="2000" spc="-1" strike="noStrike">
                <a:solidFill>
                  <a:srgbClr val="c10311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7d"/>
                </a:solidFill>
                <a:latin typeface="Arial"/>
              </a:rPr>
              <a:t>per rispondere a documentate richieste del territorio, del mondo del lavoro e delle professioni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15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55964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Rapporti tra AUTONOMIA e FLESSI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4920" y="167328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AUTON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Le istituzioni scolastiche possono modificare il monte ore annuale delle discipline di insegnamento di ciascun anno scolastico per una quota non superiore al 20% per realizzare – in base al piano dell’offerta formativa e  nei limiti delle disponibilità di bilancio – attività e insegnamenti facoltativi, coerenti con il profilo educativo, culturale e professionale dello studente in relazione al percorso scel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L’orario di ciascuna disciplina </a:t>
            </a:r>
            <a:r>
              <a:rPr b="1" lang="it-IT" sz="1600" spc="-1" strike="noStrike" u="sng">
                <a:solidFill>
                  <a:srgbClr val="00007d"/>
                </a:solidFill>
                <a:uFillTx/>
                <a:latin typeface="Arial"/>
              </a:rPr>
              <a:t>non</a:t>
            </a: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 può essere ridotto oltre il 2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Gli studenti sono tenuti alla frequenza delle attività e degli insegnamenti facoltativi prescelti. La valutazione dei risultati di apprendimento delle materie facoltative concorre alla valutazione compless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Le richieste sono formulate all’atto delle iscrizioni alle class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Al fine di ampliare e razionalizzare le scelte, gli istituti possono organizzarsi in rete e stipulare anche  contratti d’opera con esperti, entro i limiti e le risorse iscritte nel programma annuale di ciascuna istituzione scolas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FLESSI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Gli spazi di flessibilità consentono di articolare le aree di indirizzo in opzioni  non previste dal regolamento governativo. Gli studenti scelgono le opzioni a conclusione del primo bienn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68360" y="476280"/>
            <a:ext cx="75596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244000" y="54936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8244000" y="54936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7848720" y="260280"/>
            <a:ext cx="1295280" cy="1129680"/>
            <a:chOff x="7848720" y="260280"/>
            <a:chExt cx="1295280" cy="1129680"/>
          </a:xfrm>
        </p:grpSpPr>
        <p:pic>
          <p:nvPicPr>
            <p:cNvPr id="16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064360" y="2602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9"/>
            <p:cNvSpPr/>
            <p:nvPr/>
          </p:nvSpPr>
          <p:spPr>
            <a:xfrm>
              <a:off x="7848720" y="10526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2"/>
          <p:cNvSpPr/>
          <p:nvPr/>
        </p:nvSpPr>
        <p:spPr>
          <a:xfrm>
            <a:off x="1116000" y="26028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076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LE OP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885080" y="69228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7"/>
          <p:cNvGrpSpPr/>
          <p:nvPr/>
        </p:nvGrpSpPr>
        <p:grpSpPr>
          <a:xfrm>
            <a:off x="7848720" y="333360"/>
            <a:ext cx="1295280" cy="1129320"/>
            <a:chOff x="7848720" y="333360"/>
            <a:chExt cx="1295280" cy="1129320"/>
          </a:xfrm>
        </p:grpSpPr>
        <p:pic>
          <p:nvPicPr>
            <p:cNvPr id="17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064360" y="33336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9"/>
            <p:cNvSpPr/>
            <p:nvPr/>
          </p:nvSpPr>
          <p:spPr>
            <a:xfrm>
              <a:off x="7848720" y="112536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62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Le OPZIONI  possono essere previste solo se so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1)  coerenti con il profilo professionale dell’indirizzo di stud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2) comprese entro le quote di flessibilità del 30% (168 ore) e del 35% (196   or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3) contenute in un apposito elenco nazionale, aggiornato ogni 3 anni, che indica anche le classi di concorso dei docenti che possono essere utilizza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7d"/>
                </a:solidFill>
                <a:latin typeface="Arial"/>
              </a:rPr>
              <a:t>Nel Diploma di perito, rilasciato a conclusione degli esami di Stato, sono certificate le competenze acquisite dallo studente anche in riferimento alle opzi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L’elenco nazionale delle OPZIONI sarà indicato in un decreto ministeriale di natura non regolamentare, periodicamente aggiornato a seguito del monitoraggio e della valutazione di sistema da parte del COMITATO NAZIONALE PER L’ISTRUZIONE TECNICA E PROFESSION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1187280" y="18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48:39Z</dcterms:created>
  <dc:creator>M.I.U.R.</dc:creator>
  <dc:description/>
  <dc:language>en-US</dc:language>
  <cp:lastModifiedBy>win</cp:lastModifiedBy>
  <dcterms:modified xsi:type="dcterms:W3CDTF">2009-11-10T12:00:46Z</dcterms:modified>
  <cp:revision>493</cp:revision>
  <dc:subject/>
  <dc:title>Diapositiva 1</dc:title>
</cp:coreProperties>
</file>