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C94C-CC75-4EBD-B004-ED3EFFE618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6532-F213-487B-8972-05474F72391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A9B8-3111-4344-97D4-71998E901F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7A14-FCBC-446E-9B25-6B0B8FF35B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EDC-465E-4B17-B568-F21B14F70E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5B55-57B6-4C91-AA50-F99E2371F36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D9D2-62AD-4B78-AD86-ED05250EE56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83C0-75BA-4979-A649-AEF8B1634D7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CB71-77B8-4BD0-9F6B-532BEDB7DA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716-5634-47E3-81EC-5D9F780C6A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00D3-C388-4FC0-AE0E-F60CF63AF4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5BF-279A-4100-8501-9F15367081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F17F-9777-4E98-A9C6-AFCEE8BAC4E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3A01-2912-48E6-9C59-86C9A7A0C27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6094-4663-458A-8927-D98AF4A188A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E37B-6ED3-4DAE-9F48-F51C339C82D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12E-22B2-41A5-8925-2114D731463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AC1-85E9-416D-955E-36F6C042451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0F08-112A-494A-9E7C-CAC57723B88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F9FC-A72A-4549-84D1-ABF947BDCD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9D83-63FA-4DB4-ACB2-4D429059E7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7DD-1A27-4688-8749-5A8DCFB656E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155-7ABE-43D0-97CB-113C2BE3A9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B0A3-DEEB-4813-A103-73531D578A3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6A22-00E2-41B2-B22C-89C645555C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B47A-111F-444E-97DF-6DC4ED1FEF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D5E-5312-42D4-83C3-7A709EA59A1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2BD3-67BE-4FCA-8B9F-4BC7FD31CF6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E42-C721-4C4B-B922-66AB827944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7C7-9021-4CD9-BAD4-1DECD75AE9B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91F-F2B5-40AA-8ADD-FA67E5539B7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5978-BF0A-4C10-91B6-88B7586A987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D50-46EB-4C1E-8D5F-45359CCA238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B19-F036-46C5-9F42-16FF7460DF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8EAB-3635-49C9-837E-49738FE106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BB12-2800-4060-9291-536432B5552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565C-459B-4594-91FB-9039ADF175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2B8C-A7CC-4733-B0EC-72AD5CD9316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68C-4D91-45E8-9B16-A14827EFC06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D87-763E-4574-BE32-329CED3F4C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5C0-AB14-48F6-B2F0-E4DAD2DE14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494-0BC2-4471-A526-E28AB39030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F84-E4C0-4C28-A10E-C03DDCFF98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E97F-0BF7-4D38-B742-9B94D84D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8E64-0740-4AB1-A25D-43E5546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46031-96CC-4586-B130-F528B2D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10F21-FA36-42B8-90EF-8A73CF17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86F1-6616-45B0-A305-A7D36C45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11B5-BCA7-4DC7-A6E7-CEEF259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CE324-A1AC-44B7-9422-03D27E8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86410-7E9B-4030-B713-3EFD580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E813-0C8E-45BC-9E21-06BA8F66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334C1-37CC-484A-B4A8-F0AFB300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A4BA5-0695-4821-8ABF-328339DE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E342-587D-4A46-827D-966C0B4D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7B10-6859-4B52-8462-138A03F5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266E-A7E4-4982-9A7F-66A80B9F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96A4-72B2-4928-B30E-4E98148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CD66-21D0-4570-9C8C-510C0BF0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93C-6B84-4938-89B8-C60A314B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05C8-9B40-45BE-8727-097A23FA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17EC-64AB-4EBA-BA4C-2E0C9F7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5BE-BFB0-45A2-BF8E-61CA0E43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D3E3-D8E8-4C02-8DB2-853B25D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75D-6F34-4CA6-A763-0371AA7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13A0-A6D6-413B-9C89-41A50966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654-D432-471D-B321-0A29E150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BBC-1981-47B9-8536-982DF01D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8253-A27A-4AD6-AC0E-C991E6C2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9D1C-0816-44E6-A83F-9B2F98FB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B5D5-DCCE-40EC-BFDC-0C9A3B9B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509F-3F38-4CB0-ADD4-DDD12D84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F43D-8BA5-407D-BFE6-38A622DF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1119-224D-4EDE-BDBF-F064F2C8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DE69-8AED-4742-870B-C7224BD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D512-A129-4B1E-93E7-14E71EF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7349-F3C7-40B9-ABFB-E353EE1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51DB-EACA-42DB-B2A8-6A2ADE4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B229-6F26-4D02-B799-3322627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54C7-38D1-4B1E-8421-C130A77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F81B-57EF-4EE2-93FE-6E36FDB7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1F0D-9C5D-4717-B39C-DE3DFB54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1BF4-B246-4FBC-A549-ABE2EA0A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FAA1-18F6-4448-88B7-21408121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477D-E3A3-4962-825E-4BCD1ACA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8DCB-2214-4596-B6F2-E454860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38D5-136F-4705-AA33-A484FBFF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5BF4-4D7A-4562-946C-79D63421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BBA19-C915-49D9-91E1-9E76BBF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2097-EC70-41ED-9410-229CAEC0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BD6A-F576-45CF-AEB2-A917E0A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74B7-33A5-4B59-9D85-A68519A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9ACC9-A5AF-4605-997C-8AF6AA8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AE41-968D-4C59-A25C-B2E24422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25B2-35F6-41BA-A1B6-7F968628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F8C3-BAA3-4E04-BA64-53DB705A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3E88-0B19-4D88-87F4-6948D68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D458-A0C1-40C0-84FB-2A12025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A9B08-FE7C-48F7-8AD6-415F2D1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26FD-3628-4C0B-888F-025A800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94C0-24D3-4824-9A3B-4C9E3AD4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90E4-211B-4AE1-B860-B4243A7F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9FF5B-A563-48CF-B907-74770940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5722-FFB7-49E0-9536-0E3B2669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B7AA-19C0-476E-BED9-48BE3E4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AED5-4347-4DCA-8AB0-953C77A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740F-21E0-4B86-BB51-5DA702CC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084D-7A57-49E1-81F9-A98C7D0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6AB9-A356-476C-88E3-A9664F50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D192B-7DAD-4EFA-9F6D-9DA83373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5D8E7-41F3-43A8-86C9-1DA79FC8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ECBE-CD17-4222-99D2-B42400E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AF56-FCD8-4830-BDE8-63B80F00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1C2BA-199C-435B-B67F-39C482B9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C8EA1-C8A0-44EA-AF65-1723186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8C6D-D351-4B5B-9607-0BF865D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C22D-15EC-40B6-95CF-D52BF29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C516-02C8-447E-80E7-03792C5D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7FE1-0805-4CC7-A04E-F150F77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95B68-FFE3-4419-B4E8-C4BFF53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239D2-975C-4A83-8F42-9FA18C8C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F77D-7F7E-438B-9237-5A5C4C2B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5CE5-247E-4FF8-AC7F-12A76397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9831-4B26-440B-89C8-A16FAE8F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9B3E-22B0-4DA3-9E76-684927E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90BF9-6771-495B-A061-57B4A7EF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9639-1BF7-4923-9C7F-1E908E7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005F-89F5-409D-A9BA-9BD20B9A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4FF2-9B3E-4CBD-AF16-192AFE7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7391-79EC-4989-A2C5-D5C4841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1116D-15DA-4633-B859-1094456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05EF7-8552-408C-B5C0-66BFDD2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3360-D669-4840-B3B2-501BD1EA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6F97-5E68-429D-A5D4-4CAA58A6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7A1D-24D7-42FF-BD37-B07AC4D4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4B6B-A753-4D6E-8BDD-AFAEE6B6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34A8-A474-4D5C-8416-B5D7CB3D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6551-9CBE-4861-82F1-1EF66B1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AAEF-065E-41A9-B791-D4B70044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DBAF-AB69-48CB-9CF4-B34D899B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AC21-2D26-4138-8B4D-F1607BF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B919-ED53-4220-BD9C-DA3D8020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DC980-E9C6-4EB2-8635-3033D97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CD81-DBDC-4AEE-9C84-67818A2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80C1-EA36-4B56-BD72-BE027AC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28F59-5672-4978-853F-8FE9F09F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0C5FC-CD00-4EDB-B86F-B3106C02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CF11B-69FC-4637-BA30-CE92AC67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3BBBE-D285-4FF0-ADA5-B90B27FA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BFC0-AF52-403E-BC80-6C54780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0AE16-3A99-4C7C-AB4A-02A85CE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979-07BE-4E88-A1C0-1922746826E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E255-EF3D-451A-AE49-1F182C29D3D3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B62-BD21-4CAD-A72B-4CA85EF73232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0A5-54EE-4D18-BE05-52D86133C08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0664-9261-40F6-A0A5-FD150DFC225E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4B7-0A02-417A-9F20-64E7C2B9616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0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3" name="Gallone 11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Gallone 12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09AF-1E67-4231-B71E-9BBD129DB250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8C7-6974-4614-ABEC-15EB51B24C58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9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C8AC-05BF-40DA-A164-08EB94DB2E49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EC6D-82B9-4477-BB7F-FEB5192C0767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C3AE-38AC-4F06-A78F-71B09C12693A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0EE-F18A-46E1-96EF-829BACBC2C3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7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4B70-C309-4A4F-B0CF-4F8F6AB052BC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7080-F064-4A7B-8B08-52611746930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84B4-88B7-4B0D-A328-B733677A2A34}" type="datetime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4D7-F6A8-4D38-ADB8-F1BBCF3E5D3E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igura a mano libera 6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igura a mano libera 7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5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Gallone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Gallone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5A0C-C55F-4BF8-B0D8-D2C86C614B89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FBFF-7B24-4E36-8F32-0AA7B7DA96A0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CasellaDiTesto 4"/>
          <p:cNvSpPr/>
          <p:nvPr/>
        </p:nvSpPr>
        <p:spPr>
          <a:xfrm>
            <a:off x="3065400" y="1727280"/>
            <a:ext cx="60786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Calibri"/>
              </a:rPr>
              <a:t>I nu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600" spc="-1" strike="noStrike">
                <a:solidFill>
                  <a:srgbClr val="ffffff"/>
                </a:solidFill>
                <a:latin typeface="Arial"/>
                <a:ea typeface="Calibri"/>
              </a:rPr>
              <a:t>Licei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CasellaDiTesto 5"/>
          <p:cNvSpPr/>
          <p:nvPr/>
        </p:nvSpPr>
        <p:spPr>
          <a:xfrm>
            <a:off x="581040" y="4572000"/>
            <a:ext cx="83455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chema di regolamento*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recante </a:t>
            </a: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Revisione dell’assetto ordinamentale, organizzativo didattico dei licei ai sensi dell’articolo 64, comma 4, del decreto legge 25 giugno 2008, n. 112, convertito dalla legge 6 agosto 2008, n. 133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400" spc="-1" strike="noStrike">
                <a:solidFill>
                  <a:srgbClr val="ff0000"/>
                </a:solidFill>
                <a:latin typeface="Calibri"/>
              </a:rPr>
              <a:t> licenziato in prima lettura dal Consiglio dei Mini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egnaposto numero diapositiva 2"/>
          <p:cNvSpPr/>
          <p:nvPr/>
        </p:nvSpPr>
        <p:spPr>
          <a:xfrm>
            <a:off x="7340760" y="75801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1953-743F-420C-90F1-C0AC9174046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ttangolo 4"/>
          <p:cNvSpPr/>
          <p:nvPr/>
        </p:nvSpPr>
        <p:spPr>
          <a:xfrm>
            <a:off x="216000" y="1425600"/>
            <a:ext cx="86659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scientifico-tecn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 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opzione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economico-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7618-FD7A-4067-9D14-87492E95086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sellaDiTesto 6"/>
          <p:cNvSpPr/>
          <p:nvPr/>
        </p:nvSpPr>
        <p:spPr>
          <a:xfrm>
            <a:off x="563400" y="428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secondo il Regol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771480" y="912960"/>
            <a:ext cx="72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Licei del nuovo ordin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8"/>
          <p:cNvSpPr/>
          <p:nvPr/>
        </p:nvSpPr>
        <p:spPr>
          <a:xfrm>
            <a:off x="388800" y="1101600"/>
            <a:ext cx="78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Licei si diversificano in rapporto agli approfondimenti specifici che rientrano all’interno d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un’unica cultura liceal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I quadri orari dei singoli percorsi liceali presentano l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terie obbligatorie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tutti gli studenti. Ciascuna istituzione scolastica può utilizzare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a quota di autonomia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per rafforzare alcune materie o per inserirne di ulteriori scelte dal Repertorio (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llegato H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L’offerta formativa può essere ulteriormente arricchita attraverso gl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segnamenti facoltativi aggiuntivi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Times New Roman"/>
              </a:rPr>
              <a:t>attivati dalle Istituzioni scolast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7CE5-2D02-4EF7-A468-728AAC2ADA1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BEC5-5DAE-424B-9384-303566AD424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3"/>
          <p:cNvSpPr/>
          <p:nvPr/>
        </p:nvSpPr>
        <p:spPr>
          <a:xfrm>
            <a:off x="565200" y="398520"/>
            <a:ext cx="782460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Calibri"/>
              </a:rPr>
              <a:t>allegato H – Repertorio delle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Approfondimenti nelle discipline obbligatorie </a:t>
            </a:r>
            <a:r>
              <a:rPr b="1" lang="it-IT" sz="1400" spc="-1" strike="noStrike">
                <a:solidFill>
                  <a:srgbClr val="002060"/>
                </a:solidFill>
                <a:latin typeface="Arial"/>
                <a:ea typeface="Calibri"/>
              </a:rPr>
              <a:t>oppure ove non previste tra le Attività e insegnamenti obbligatori per tutti gli studenti nelle singole classi, attivazione tra le seguenti discipli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ritto ed econo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Mu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rumento musi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stranier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la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ingua e cultura gre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Discipline audiovi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cnologia e diseg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toria dell’a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edag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Psic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oci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Legislazione soc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Elementi di Psicologia, sociologia e stati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Informatica e sistemi automa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sociali e metodologia della 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Fi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Scienz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Conversazione con docente di madrelin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ef033b"/>
                </a:solidFill>
                <a:latin typeface="Arial"/>
                <a:ea typeface="Calibri"/>
              </a:rPr>
              <a:t>Teoria e tecnica della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943-2100-4884-AE3A-131BA70F441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1407960"/>
            <a:ext cx="89582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Verdana"/>
                <a:ea typeface="Calibri"/>
              </a:rPr>
              <a:t>	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i percorsi liceali la quota oraria riservata alle singole istituzioni scolastiche, determinata nei limiti del contingente di organico ad esse assegnato, e tenuto conto delle richieste degli studenti e delle loro famiglie,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superiore al 20% del monte ore complessivo</a:t>
            </a:r>
            <a:r>
              <a:rPr b="0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el primo biennio, al 30% nel secondo biennio e al 20% nel quinto anno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, fermo restando che l’orario previsto dal piano di studio di ciascuna disciplina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Calibri"/>
              </a:rPr>
              <a:t>non può essere ridotto in misura superiore a un terzo nell’arco dei cinque a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CasellaDiTesto 6"/>
          <p:cNvSpPr/>
          <p:nvPr/>
        </p:nvSpPr>
        <p:spPr>
          <a:xfrm>
            <a:off x="717480" y="425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Quote di aut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7AC6-2E40-4CC9-8FDF-53863503CC6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sellaDiTesto 2"/>
          <p:cNvSpPr/>
          <p:nvPr/>
        </p:nvSpPr>
        <p:spPr>
          <a:xfrm>
            <a:off x="142920" y="59832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GESTIONE DELLA QUOTA DI AUTONOMIA ATTRAVERSO IL SISTEMA INFORMATIVO DEL MI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CasellaDiTesto 4"/>
          <p:cNvGrpSpPr/>
          <p:nvPr/>
        </p:nvGrpSpPr>
        <p:grpSpPr>
          <a:xfrm>
            <a:off x="237960" y="890640"/>
            <a:ext cx="8607600" cy="6028920"/>
            <a:chOff x="237960" y="890640"/>
            <a:chExt cx="8607600" cy="6028920"/>
          </a:xfrm>
        </p:grpSpPr>
        <p:pic>
          <p:nvPicPr>
            <p:cNvPr id="517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37960" y="890640"/>
              <a:ext cx="860760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60280" y="914400"/>
              <a:ext cx="8566200" cy="60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Per rendere effettiva la possibilità di recepire in organico di diritto le variazioni determinate dall’impiego della quota del 20% e del 30% di autonomia riservata alle singole Istituzioni Scolastiche verrà assicurata la seguente procedura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il Sistema Informativo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del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MIUR</a:t>
              </a:r>
              <a:r>
                <a:rPr b="0" lang="it-IT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fornirà l’elaborazione automatizzata degli organici sulla base dei piani orari nazionali standar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7d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e singole istituzioni scolastiche inseriranno le variazioni necessarie a corrispondere al Piano dell’offerta formativa, 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compensazion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sia in termini di </a:t>
              </a:r>
              <a:r>
                <a:rPr b="0" lang="it-IT" sz="2200" spc="-1" strike="noStrike">
                  <a:solidFill>
                    <a:srgbClr val="ef033b"/>
                  </a:solidFill>
                  <a:latin typeface="Arial"/>
                </a:rPr>
                <a:t>inserimento di discipline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(nell’ambito del repertorio di cui all’allegato H), fermi restando il numero delle ore previste dall’ordinamento, le quote di autonomia su richiamate, e il vincolo di non diminuire una disciplina  di più di un terzo nell’arco del quinquennio 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0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015-9929-428C-8605-C05A0943764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asellaDiTesto 2"/>
          <p:cNvSpPr/>
          <p:nvPr/>
        </p:nvSpPr>
        <p:spPr>
          <a:xfrm>
            <a:off x="142920" y="59832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ORGANICO AGGIUN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CasellaDiTesto 4"/>
          <p:cNvGrpSpPr/>
          <p:nvPr/>
        </p:nvGrpSpPr>
        <p:grpSpPr>
          <a:xfrm>
            <a:off x="262080" y="1627200"/>
            <a:ext cx="8613720" cy="5462640"/>
            <a:chOff x="262080" y="1627200"/>
            <a:chExt cx="8613720" cy="5462640"/>
          </a:xfrm>
        </p:grpSpPr>
        <p:pic>
          <p:nvPicPr>
            <p:cNvPr id="526" name="CasellaDiTesto 4" descr=""/>
            <p:cNvPicPr/>
            <p:nvPr/>
          </p:nvPicPr>
          <p:blipFill>
            <a:blip r:embed="rId1"/>
            <a:stretch/>
          </p:blipFill>
          <p:spPr>
            <a:xfrm>
              <a:off x="262080" y="1627200"/>
              <a:ext cx="861372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89080" y="1652760"/>
              <a:ext cx="85658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7d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 </a:t>
              </a: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L’annuale Decreto Interministeriale metterà a disposizione delle scuole  e / o di reti di scuole un  contingente di organico aggiuntivo secondo modalità tecnico-giuridiche di ampliamento degli organic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7d"/>
                  </a:solidFill>
                  <a:latin typeface="Arial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8001000" y="142920"/>
            <a:ext cx="1011240" cy="955440"/>
            <a:chOff x="8001000" y="142920"/>
            <a:chExt cx="1011240" cy="955440"/>
          </a:xfrm>
        </p:grpSpPr>
        <p:pic>
          <p:nvPicPr>
            <p:cNvPr id="529" name="Picture 8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169480" y="142920"/>
              <a:ext cx="594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9"/>
            <p:cNvSpPr/>
            <p:nvPr/>
          </p:nvSpPr>
          <p:spPr>
            <a:xfrm>
              <a:off x="8001000" y="761040"/>
              <a:ext cx="101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3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CasellaDiTesto 6"/>
          <p:cNvSpPr/>
          <p:nvPr/>
        </p:nvSpPr>
        <p:spPr>
          <a:xfrm>
            <a:off x="384120" y="59364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arico orario per gli stu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0" y="1335240"/>
            <a:ext cx="914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artistico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4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bienni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5 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nel trienn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ef033b"/>
                </a:solidFill>
                <a:uFillTx/>
                <a:latin typeface="Arial"/>
                <a:ea typeface="Times New Roman"/>
              </a:rPr>
              <a:t>musicale e coreutico</a:t>
            </a:r>
            <a:br>
              <a:rPr sz="3200"/>
            </a:b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Times New Roman"/>
              </a:rPr>
              <a:t>(dalla prima alla quinta cla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2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o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lassico</a:t>
            </a:r>
            <a:br>
              <a:rPr sz="3200"/>
            </a:b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1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7d"/>
                </a:solidFill>
                <a:uFillTx/>
                <a:latin typeface="Arial"/>
                <a:ea typeface="Times New Roman"/>
              </a:rPr>
              <a:t>Licei </a:t>
            </a:r>
            <a:r>
              <a:rPr b="1" lang="it-IT" sz="2800" spc="-1" strike="noStrike" u="sng">
                <a:solidFill>
                  <a:srgbClr val="ef033b"/>
                </a:solidFill>
                <a:uFillTx/>
                <a:latin typeface="Arial"/>
              </a:rPr>
              <a:t>scientifico, linguistico, scienze u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27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biennio, </a:t>
            </a:r>
            <a:r>
              <a:rPr b="1" lang="it-IT" sz="3200" spc="-1" strike="noStrike">
                <a:solidFill>
                  <a:srgbClr val="ef033b"/>
                </a:solidFill>
                <a:latin typeface="Arial"/>
                <a:ea typeface="Times New Roman"/>
              </a:rPr>
              <a:t>30 ore 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</a:rPr>
              <a:t>nel triennio</a:t>
            </a:r>
            <a:r>
              <a:rPr b="1" lang="it-IT" sz="1800" spc="-1" strike="noStrike">
                <a:solidFill>
                  <a:srgbClr val="ef033b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AEC3-9592-4D07-B083-A9D1253688A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189000" y="1210680"/>
            <a:ext cx="85946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I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Calibri"/>
              </a:rPr>
              <a:t>tutti i Lice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viene studi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obbligatoriamen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almeno una lingua stran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Calibri"/>
              </a:rPr>
              <a:t>Nel Liceo linguistico, che diventa scuola di ordinamento, si studiano tre lingue stran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È attivabile una seconda lingua straniera in tutti i licei usufruendo  della quota di autono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CasellaDiTesto 6"/>
          <p:cNvSpPr/>
          <p:nvPr/>
        </p:nvSpPr>
        <p:spPr>
          <a:xfrm>
            <a:off x="417600" y="466560"/>
            <a:ext cx="74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Lingue strani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28760" y="4270320"/>
            <a:ext cx="8092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class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fino ad ora lo studio della lingua straniera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era previsto solo nel bien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Nel 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iceo artistico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quadriennale non era previsto </a:t>
            </a:r>
            <a:br>
              <a:rPr sz="2000"/>
            </a:br>
            <a:r>
              <a:rPr b="0" lang="it-IT" sz="2000" spc="-1" strike="noStrike">
                <a:solidFill>
                  <a:srgbClr val="00007d"/>
                </a:solidFill>
                <a:latin typeface="Arial"/>
                <a:ea typeface="Arial"/>
              </a:rPr>
              <a:t>lo studio della lingua stran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692-A669-4F37-AE90-3D7AC628511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Rectangle 7"/>
          <p:cNvSpPr/>
          <p:nvPr/>
        </p:nvSpPr>
        <p:spPr>
          <a:xfrm>
            <a:off x="584280" y="1373040"/>
            <a:ext cx="795168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In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tutti i percorsi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è previsto che, nel quinto anno di corso, una disciplina non linguistica sia studiata in lingua straniera secondo la modalità CL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Un decreto ministeriale fisserà i percorsi e i titoli per ottenere la specializzazione CL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asellaDiTesto 6"/>
          <p:cNvSpPr/>
          <p:nvPr/>
        </p:nvSpPr>
        <p:spPr>
          <a:xfrm>
            <a:off x="822240" y="614520"/>
            <a:ext cx="74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38C-70B3-4A41-B7C5-BCAACC3FDED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Obbligo di istr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Il primo biennio di ciascun percorso è finalizzato a una prima acquisizione delle conoscenze, abilità e competenze caratterizzanti le singole articolazioni del sistema liceale di cui all’articolo 3 e all’assolvimento dell’obbligo di i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Ciò anche attraverso la verifica e l’eventuale integrazione delle conoscenze, abilità e competenze raggiunte al termine del primo ciclo di istruzione, attraverso gli strumenti di autonomia didattica previsti dall’articolo 4 del DPR 8 marzo 1999, n. 2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47AC-9D84-44B2-97E0-7546A70FA29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Avver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B93-D32B-4F0A-9831-4EE0A0E1C8A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552600" y="923040"/>
            <a:ext cx="83152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Scuola, istruzione superiore,</a:t>
            </a:r>
            <a:br>
              <a:rPr sz="3200"/>
            </a:b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mondo del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e istituzioni scolastiche stabiliscono, a partire dal secondo biennio, anche d’intesa con le università, le istituzioni dell’alta formazione artistica, musicale e coreutica, gli IFTS e gli ITS modalità per l’approfondimento delle conoscenze, delle abilità e delle competenze richieste per l’accesso ai relativi percorsi o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L’approfondimento può essere realizzato anche nell’ambito dei percorsi di alternanza scuola-lavoro di cui al decreto legislativo 15 aprile 2005, n. 77, nonché attraverso l’attivazione di moduli e di iniziative di studio-lavoro per progetti, di esperienze pratiche e di </a:t>
            </a:r>
            <a:r>
              <a:rPr b="0" i="1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stage</a:t>
            </a:r>
            <a:r>
              <a:rPr b="0" lang="it-IT" sz="2000" spc="-1" strike="noStrike">
                <a:solidFill>
                  <a:srgbClr val="00005e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422E-934D-499B-A783-F6BBBD46BB2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"/>
          <p:cNvGrpSpPr/>
          <p:nvPr/>
        </p:nvGrpSpPr>
        <p:grpSpPr>
          <a:xfrm>
            <a:off x="7705800" y="131760"/>
            <a:ext cx="1295280" cy="1129320"/>
            <a:chOff x="7705800" y="131760"/>
            <a:chExt cx="1295280" cy="1129320"/>
          </a:xfrm>
        </p:grpSpPr>
        <p:pic>
          <p:nvPicPr>
            <p:cNvPr id="56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317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9"/>
            <p:cNvSpPr/>
            <p:nvPr/>
          </p:nvSpPr>
          <p:spPr>
            <a:xfrm>
              <a:off x="7705800" y="9237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C86-7AA3-42BA-B349-56024D33D8E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Monitoraggio e valutazione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LICE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onen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la cultura, dell’arte e della ricerca, dell’università e dell’alta formazione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un espert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o dal Ministero per la pubblica amministrazione e l’innovazioni, ANSAS e INVAL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Ha funzioni di proposta e consulenza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per l’aggiornamento periodico del Profilo educativo, culturale e professionale dello studente e delle Indicazioni naziona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9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Arial"/>
                <a:ea typeface="Arial"/>
              </a:rPr>
              <a:t>Liceo artisti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7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8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art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0" y="3270240"/>
            <a:ext cx="895356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Nel triennio, il Liceo artistico è articolato in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3 indirizz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ti figu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rchitettura Design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</a:rPr>
              <a:t>Audiovisivo Multimedia Sce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f03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228600" y="1589040"/>
            <a:ext cx="863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attraver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mponente estet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, fornendo agli stud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strumenti per esprimere la propri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creativ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attraverso 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rogettualità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50D-B9D1-4571-9DF3-4F2C5A7DDC7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1154-23D3-483D-B1BD-5503EE3A227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7"/>
          <p:cNvGrpSpPr/>
          <p:nvPr/>
        </p:nvGrpSpPr>
        <p:grpSpPr>
          <a:xfrm>
            <a:off x="7778880" y="71280"/>
            <a:ext cx="1222200" cy="888840"/>
            <a:chOff x="7778880" y="71280"/>
            <a:chExt cx="1222200" cy="888840"/>
          </a:xfrm>
        </p:grpSpPr>
        <p:pic>
          <p:nvPicPr>
            <p:cNvPr id="5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82640" y="71280"/>
              <a:ext cx="718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9"/>
            <p:cNvSpPr/>
            <p:nvPr/>
          </p:nvSpPr>
          <p:spPr>
            <a:xfrm>
              <a:off x="7778880" y="622800"/>
              <a:ext cx="122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CasellaDiTesto 6"/>
          <p:cNvSpPr/>
          <p:nvPr/>
        </p:nvSpPr>
        <p:spPr>
          <a:xfrm>
            <a:off x="579600" y="426960"/>
            <a:ext cx="6883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18960" y="1025640"/>
          <a:ext cx="8475840" cy="5692680"/>
        </p:xfrm>
        <a:graphic>
          <a:graphicData uri="http://schemas.openxmlformats.org/drawingml/2006/table">
            <a:tbl>
              <a:tblPr/>
              <a:tblGrid>
                <a:gridCol w="4307040"/>
                <a:gridCol w="598320"/>
                <a:gridCol w="209520"/>
                <a:gridCol w="487440"/>
                <a:gridCol w="320760"/>
                <a:gridCol w="390600"/>
                <a:gridCol w="417600"/>
                <a:gridCol w="323640"/>
                <a:gridCol w="486000"/>
                <a:gridCol w="225360"/>
                <a:gridCol w="7095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CasellaDiTesto 6"/>
          <p:cNvSpPr/>
          <p:nvPr/>
        </p:nvSpPr>
        <p:spPr>
          <a:xfrm>
            <a:off x="6364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AFE9-1B25-41F7-AC8F-27BD7C39A11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5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CasellaDiTesto 6"/>
          <p:cNvSpPr/>
          <p:nvPr/>
        </p:nvSpPr>
        <p:spPr>
          <a:xfrm>
            <a:off x="565200" y="398520"/>
            <a:ext cx="688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	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ti figu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5"/>
          <p:cNvSpPr/>
          <p:nvPr/>
        </p:nvSpPr>
        <p:spPr>
          <a:xfrm>
            <a:off x="0" y="5691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333360" y="1260360"/>
          <a:ext cx="8475840" cy="3048120"/>
        </p:xfrm>
        <a:graphic>
          <a:graphicData uri="http://schemas.openxmlformats.org/drawingml/2006/table">
            <a:tbl>
              <a:tblPr/>
              <a:tblGrid>
                <a:gridCol w="4307040"/>
                <a:gridCol w="807840"/>
                <a:gridCol w="808200"/>
                <a:gridCol w="807840"/>
                <a:gridCol w="809640"/>
                <a:gridCol w="9352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figur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7"/>
          <p:cNvGrpSpPr/>
          <p:nvPr/>
        </p:nvGrpSpPr>
        <p:grpSpPr>
          <a:xfrm>
            <a:off x="8124840" y="60480"/>
            <a:ext cx="752400" cy="807120"/>
            <a:chOff x="8124840" y="60480"/>
            <a:chExt cx="752400" cy="807120"/>
          </a:xfrm>
        </p:grpSpPr>
        <p:pic>
          <p:nvPicPr>
            <p:cNvPr id="60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50120" y="60480"/>
              <a:ext cx="442440" cy="45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9"/>
            <p:cNvSpPr/>
            <p:nvPr/>
          </p:nvSpPr>
          <p:spPr>
            <a:xfrm>
              <a:off x="8124840" y="530280"/>
              <a:ext cx="75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CasellaDiTesto 6"/>
          <p:cNvSpPr/>
          <p:nvPr/>
        </p:nvSpPr>
        <p:spPr>
          <a:xfrm>
            <a:off x="550800" y="30168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93840" y="816120"/>
          <a:ext cx="8404200" cy="6095880"/>
        </p:xfrm>
        <a:graphic>
          <a:graphicData uri="http://schemas.openxmlformats.org/drawingml/2006/table">
            <a:tbl>
              <a:tblPr/>
              <a:tblGrid>
                <a:gridCol w="4209840"/>
                <a:gridCol w="835200"/>
                <a:gridCol w="757080"/>
                <a:gridCol w="642960"/>
                <a:gridCol w="182520"/>
                <a:gridCol w="469800"/>
                <a:gridCol w="301680"/>
                <a:gridCol w="338400"/>
                <a:gridCol w="6667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357-024D-4831-9A59-865073F8E6A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CasellaDiTesto 6"/>
          <p:cNvSpPr/>
          <p:nvPr/>
        </p:nvSpPr>
        <p:spPr>
          <a:xfrm>
            <a:off x="593640" y="498600"/>
            <a:ext cx="6883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br>
              <a:rPr sz="4000"/>
            </a:br>
            <a:r>
              <a:rPr b="0" lang="it-IT" sz="40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rchitettura Design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61800" y="1192320"/>
          <a:ext cx="8420400" cy="3166920"/>
        </p:xfrm>
        <a:graphic>
          <a:graphicData uri="http://schemas.openxmlformats.org/drawingml/2006/table">
            <a:tbl>
              <a:tblPr/>
              <a:tblGrid>
                <a:gridCol w="4218120"/>
                <a:gridCol w="797040"/>
                <a:gridCol w="798480"/>
                <a:gridCol w="801720"/>
                <a:gridCol w="798480"/>
                <a:gridCol w="1006560"/>
              </a:tblGrid>
              <a:tr h="322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ella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rogettu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chitettura/design/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7"/>
          <p:cNvGrpSpPr/>
          <p:nvPr/>
        </p:nvGrpSpPr>
        <p:grpSpPr>
          <a:xfrm>
            <a:off x="7778880" y="25560"/>
            <a:ext cx="995400" cy="945360"/>
            <a:chOff x="7778880" y="25560"/>
            <a:chExt cx="995400" cy="945360"/>
          </a:xfrm>
        </p:grpSpPr>
        <p:pic>
          <p:nvPicPr>
            <p:cNvPr id="6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44840" y="25560"/>
              <a:ext cx="585360" cy="5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9"/>
            <p:cNvSpPr/>
            <p:nvPr/>
          </p:nvSpPr>
          <p:spPr>
            <a:xfrm>
              <a:off x="7778880" y="633600"/>
              <a:ext cx="9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CasellaDiTesto 6"/>
          <p:cNvSpPr/>
          <p:nvPr/>
        </p:nvSpPr>
        <p:spPr>
          <a:xfrm>
            <a:off x="450720" y="189000"/>
            <a:ext cx="68835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39560" y="787320"/>
          <a:ext cx="8264880" cy="6096240"/>
        </p:xfrm>
        <a:graphic>
          <a:graphicData uri="http://schemas.openxmlformats.org/drawingml/2006/table">
            <a:tbl>
              <a:tblPr/>
              <a:tblGrid>
                <a:gridCol w="4253040"/>
                <a:gridCol w="630360"/>
                <a:gridCol w="315720"/>
                <a:gridCol w="515880"/>
                <a:gridCol w="182880"/>
                <a:gridCol w="506160"/>
                <a:gridCol w="182520"/>
                <a:gridCol w="441360"/>
                <a:gridCol w="206640"/>
                <a:gridCol w="403200"/>
                <a:gridCol w="627120"/>
              </a:tblGrid>
              <a:tr h="297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rafiche e pitto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plas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rti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egnaposto numero diapositiva 2"/>
          <p:cNvSpPr/>
          <p:nvPr/>
        </p:nvSpPr>
        <p:spPr>
          <a:xfrm>
            <a:off x="6824520" y="6319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7772-42DC-4DB9-8066-11FA9ACDFD9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2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CasellaDiTesto 6"/>
          <p:cNvSpPr/>
          <p:nvPr/>
        </p:nvSpPr>
        <p:spPr>
          <a:xfrm>
            <a:off x="493560" y="398520"/>
            <a:ext cx="688356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1800" spc="-1" strike="noStrike">
                <a:solidFill>
                  <a:srgbClr val="993300"/>
                </a:solidFill>
                <a:latin typeface="Arial"/>
                <a:ea typeface="Calibri"/>
              </a:rPr>
              <a:t>Audiovisivo Multimedia Scen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42800" y="1379520"/>
          <a:ext cx="8580600" cy="3006720"/>
        </p:xfrm>
        <a:graphic>
          <a:graphicData uri="http://schemas.openxmlformats.org/drawingml/2006/table">
            <a:tbl>
              <a:tblPr/>
              <a:tblGrid>
                <a:gridCol w="4241880"/>
                <a:gridCol w="814320"/>
                <a:gridCol w="816120"/>
                <a:gridCol w="815760"/>
                <a:gridCol w="817560"/>
                <a:gridCol w="10749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di indirizzo – Orario medio settima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audio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geometr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Discipline audiovis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complessivo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1"/>
          <p:cNvSpPr/>
          <p:nvPr/>
        </p:nvSpPr>
        <p:spPr>
          <a:xfrm>
            <a:off x="334800" y="894960"/>
            <a:ext cx="8402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 Cabina di Regia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, istituita con Decreto ministeriale del MIUR </a:t>
            </a: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n.75 del 2009, ha il compito 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coordinare e orientare i diversi provvedimenti collegati al nuovo ordinamento dei licei, anche alla luce dei pareri previsti dall’iter normativo vigente.” (Art. 1). Svolge inoltre la funzione di “coordinamento e indirizzo relativo alle finalità di cui al Decreto Dipartimentale del 17 febbraio 2009, n. 14, avvalendosi dei materiali sin qui sviluppati dal Gruppo tecnico e della collaborazione dei gruppi di lavoro individuati dal medesimo provvedimento.” (Art.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La Cabina di Regia,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 finché il Regolamento non sarà proposto in seconda lettura al Consiglio dei Ministri per l'approvazione definitiva, </a:t>
            </a:r>
            <a:r>
              <a:rPr b="1" lang="it-IT" sz="2000" spc="-1" strike="noStrike">
                <a:solidFill>
                  <a:srgbClr val="002060"/>
                </a:solidFill>
                <a:latin typeface="Arial"/>
              </a:rPr>
              <a:t>si occuperà di raccogliere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areri istituzionali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(Consiglio Nazionale della Pubblica Istruzione, Consiglio di Stato, Conferenza Unificata, Commissioni Parlamentari)  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i suggerimenti che verranno dal mondo della scuola e dall'opinione pub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CasellaDiTesto 6"/>
          <p:cNvSpPr/>
          <p:nvPr/>
        </p:nvSpPr>
        <p:spPr>
          <a:xfrm>
            <a:off x="650880" y="60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Cabina di R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23E-9255-4701-950A-9384C1932B1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</a:t>
            </a:r>
            <a:br>
              <a:rPr sz="44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musicale e coreu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3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52ED-F618-4C63-AA16-C60370459398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CasellaDiTesto 6"/>
          <p:cNvSpPr/>
          <p:nvPr/>
        </p:nvSpPr>
        <p:spPr>
          <a:xfrm>
            <a:off x="584280" y="5000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musicale e coreu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492120" y="1771560"/>
            <a:ext cx="81662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musicale e coreutico è stata introdotta una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sezione music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che prevede, tra l’altro, esecuzione e interpretazione stru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 il laboratorio di musica di insieme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la sezione coreutica si prevede non solo lo studio ma anche 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a50021"/>
                </a:solidFill>
                <a:latin typeface="Arial"/>
              </a:rPr>
              <a:t>pratica delle diverse tecniche della danz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CasellaDiTesto 6"/>
          <p:cNvSpPr/>
          <p:nvPr/>
        </p:nvSpPr>
        <p:spPr>
          <a:xfrm>
            <a:off x="6364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048E-46F5-4CF9-B32E-E68D1C8B297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47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CasellaDiTesto 6"/>
          <p:cNvSpPr/>
          <p:nvPr/>
        </p:nvSpPr>
        <p:spPr>
          <a:xfrm>
            <a:off x="650880" y="3348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538200" y="1320840"/>
          <a:ext cx="8153280" cy="4324320"/>
        </p:xfrm>
        <a:graphic>
          <a:graphicData uri="http://schemas.openxmlformats.org/drawingml/2006/table">
            <a:tbl>
              <a:tblPr/>
              <a:tblGrid>
                <a:gridCol w="4243320"/>
                <a:gridCol w="747720"/>
                <a:gridCol w="216000"/>
                <a:gridCol w="521640"/>
                <a:gridCol w="181800"/>
                <a:gridCol w="381240"/>
                <a:gridCol w="227880"/>
                <a:gridCol w="393840"/>
                <a:gridCol w="353880"/>
                <a:gridCol w="283320"/>
                <a:gridCol w="6026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229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DC6-BB19-4AFD-8D98-845E04A5C6E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7"/>
          <p:cNvGrpSpPr/>
          <p:nvPr/>
        </p:nvGrpSpPr>
        <p:grpSpPr>
          <a:xfrm>
            <a:off x="7851600" y="142920"/>
            <a:ext cx="873360" cy="833400"/>
            <a:chOff x="7851600" y="142920"/>
            <a:chExt cx="873360" cy="833400"/>
          </a:xfrm>
        </p:grpSpPr>
        <p:pic>
          <p:nvPicPr>
            <p:cNvPr id="65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7040" y="142920"/>
              <a:ext cx="513720" cy="47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Text Box 9"/>
            <p:cNvSpPr/>
            <p:nvPr/>
          </p:nvSpPr>
          <p:spPr>
            <a:xfrm>
              <a:off x="7851600" y="639000"/>
              <a:ext cx="87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asellaDiTesto 6"/>
          <p:cNvSpPr/>
          <p:nvPr/>
        </p:nvSpPr>
        <p:spPr>
          <a:xfrm>
            <a:off x="650880" y="3348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musicale e core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71360" y="1967040"/>
          <a:ext cx="8121600" cy="4724280"/>
        </p:xfrm>
        <a:graphic>
          <a:graphicData uri="http://schemas.openxmlformats.org/drawingml/2006/table">
            <a:tbl>
              <a:tblPr/>
              <a:tblGrid>
                <a:gridCol w="4245120"/>
                <a:gridCol w="747720"/>
                <a:gridCol w="747720"/>
                <a:gridCol w="747720"/>
                <a:gridCol w="745920"/>
                <a:gridCol w="887400"/>
              </a:tblGrid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Motorie e spor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Esecuzione e interpre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oria e composi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mu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di musica d’insie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uove Tec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ezione coreu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iche della d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aboratorio core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aboratorio mus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208080" y="833400"/>
          <a:ext cx="8124840" cy="1127160"/>
        </p:xfrm>
        <a:graphic>
          <a:graphicData uri="http://schemas.openxmlformats.org/drawingml/2006/table">
            <a:tbl>
              <a:tblPr/>
              <a:tblGrid>
                <a:gridCol w="4246560"/>
                <a:gridCol w="747720"/>
                <a:gridCol w="747720"/>
                <a:gridCol w="747720"/>
                <a:gridCol w="747720"/>
                <a:gridCol w="8874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 an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delle scienze um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699-24F7-4A6E-8150-08262E4246B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a conoscenza dei fenomeni collegati a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ostruzione dell’identità personal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e delle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elazioni umane e soci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26920" y="685800"/>
            <a:ext cx="64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3F94-0AD8-4C48-B25D-F54AD22A33E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28600" y="1135080"/>
          <a:ext cx="8756640" cy="5187960"/>
        </p:xfrm>
        <a:graphic>
          <a:graphicData uri="http://schemas.openxmlformats.org/drawingml/2006/table">
            <a:tbl>
              <a:tblPr/>
              <a:tblGrid>
                <a:gridCol w="3137040"/>
                <a:gridCol w="1238040"/>
                <a:gridCol w="1038240"/>
                <a:gridCol w="145728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uma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u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A3D-3E24-4BD7-BD14-8F051D417EC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egnaposto contenuto 2"/>
          <p:cNvSpPr/>
          <p:nvPr/>
        </p:nvSpPr>
        <p:spPr>
          <a:xfrm>
            <a:off x="3459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Al fine di assecondare le vocazioni degli studenti interessati ad acquisire competenze particolarmente avanzate negli studi afferenti al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scienze giuridiche, economiche e sociali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it-IT" sz="3000" spc="-1" strike="noStrike">
                <a:solidFill>
                  <a:srgbClr val="000072"/>
                </a:solidFill>
                <a:latin typeface="Arial"/>
              </a:rPr>
              <a:t>le istituzioni scolastiche possono attivare, nell’ambito del liceo delle scienze umane, una o più sezione a </a:t>
            </a: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opzione economico-sociale</a:t>
            </a: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delle scienze um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economico-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E8DD-B482-4BA5-AC80-ABB1DB60E0A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7870680" y="0"/>
            <a:ext cx="1041480" cy="1047960"/>
            <a:chOff x="7870680" y="0"/>
            <a:chExt cx="1041480" cy="1047960"/>
          </a:xfrm>
        </p:grpSpPr>
        <p:pic>
          <p:nvPicPr>
            <p:cNvPr id="69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44200" y="0"/>
              <a:ext cx="6123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9"/>
            <p:cNvSpPr/>
            <p:nvPr/>
          </p:nvSpPr>
          <p:spPr>
            <a:xfrm>
              <a:off x="7870680" y="71064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CasellaDiTesto 6"/>
          <p:cNvSpPr/>
          <p:nvPr/>
        </p:nvSpPr>
        <p:spPr>
          <a:xfrm>
            <a:off x="650880" y="4752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econom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228600" y="1135080"/>
          <a:ext cx="8756640" cy="5110200"/>
        </p:xfrm>
        <a:graphic>
          <a:graphicData uri="http://schemas.openxmlformats.org/drawingml/2006/table">
            <a:tbl>
              <a:tblPr/>
              <a:tblGrid>
                <a:gridCol w="3137040"/>
                <a:gridCol w="771480"/>
                <a:gridCol w="466560"/>
                <a:gridCol w="346320"/>
                <a:gridCol w="691920"/>
                <a:gridCol w="411120"/>
                <a:gridCol w="1046160"/>
                <a:gridCol w="944640"/>
                <a:gridCol w="9414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stranier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tto ed econom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sociali e metodologia della rice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,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clas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69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4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"/>
          <p:cNvSpPr/>
          <p:nvPr/>
        </p:nvSpPr>
        <p:spPr>
          <a:xfrm>
            <a:off x="552600" y="643320"/>
            <a:ext cx="811368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legge 14/2009*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ha previ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dal settembre 2010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l’avvio del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sistema dei Lice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2060"/>
                </a:solidFill>
                <a:latin typeface="Arial"/>
                <a:ea typeface="Calibri"/>
              </a:rPr>
              <a:t>l'articolo 64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, comma 4, del decreto legge 25 giugno 2008, n. 112,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convertito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 con modificazioni dalla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Legge 6 agosto 2008, n. 133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Calibri"/>
              </a:rPr>
              <a:t>ha previsto la revisione degli ordinamenti attraverso regol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*</a:t>
            </a:r>
            <a:r>
              <a:rPr b="0" lang="it-IT" sz="1800" spc="-1" strike="noStrike">
                <a:solidFill>
                  <a:srgbClr val="00007d"/>
                </a:solidFill>
                <a:latin typeface="Arial"/>
                <a:ea typeface="Calibri"/>
              </a:rPr>
              <a:t>Decreto legge 30 Dicembre 2008, n. 207, convertito, con modificazioni, dalla legge 27 Febbraio 2009, n. 14, articolo 37, com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asellaDiTesto 6"/>
          <p:cNvSpPr/>
          <p:nvPr/>
        </p:nvSpPr>
        <p:spPr>
          <a:xfrm>
            <a:off x="650880" y="6048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4C5-6CB9-4811-8DC8-D65930CB3E4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A143-B909-434D-97BA-4A72D8E6BB0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0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9"/>
          <p:cNvSpPr/>
          <p:nvPr/>
        </p:nvSpPr>
        <p:spPr>
          <a:xfrm>
            <a:off x="0" y="5821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62"/>
          <p:cNvSpPr/>
          <p:nvPr/>
        </p:nvSpPr>
        <p:spPr>
          <a:xfrm>
            <a:off x="189000" y="1994040"/>
            <a:ext cx="877392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dal punto di vista dello  studio dell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civiltà classica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Il nuovo liceo classico propone l’insegna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di un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lingua straniera dal primo al quinto anno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e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storia dell’arte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 nel secondo biennio e nel quinto anno per due ore medie settiman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Potenzia inoltre l’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asse matematico-scientifico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5"/>
          <p:cNvSpPr/>
          <p:nvPr/>
        </p:nvSpPr>
        <p:spPr>
          <a:xfrm>
            <a:off x="733320" y="42876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clas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405-592D-433A-A6C5-C4129A8880C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cl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6360" y="1314360"/>
          <a:ext cx="8582040" cy="4762440"/>
        </p:xfrm>
        <a:graphic>
          <a:graphicData uri="http://schemas.openxmlformats.org/drawingml/2006/table">
            <a:tbl>
              <a:tblPr/>
              <a:tblGrid>
                <a:gridCol w="4037040"/>
                <a:gridCol w="1257480"/>
                <a:gridCol w="1091880"/>
                <a:gridCol w="677880"/>
                <a:gridCol w="674640"/>
                <a:gridCol w="84312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 an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gre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6" name="Text Box 136"/>
          <p:cNvSpPr/>
          <p:nvPr/>
        </p:nvSpPr>
        <p:spPr>
          <a:xfrm>
            <a:off x="304920" y="6060960"/>
            <a:ext cx="852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scienti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1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21B-8DEC-4FC0-A070-E4772CAAD91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2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67"/>
          <p:cNvSpPr/>
          <p:nvPr/>
        </p:nvSpPr>
        <p:spPr>
          <a:xfrm>
            <a:off x="399960" y="16588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	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Approfondisce la cultura liceale nella prospettiva del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rapporto fra la tradizione umani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	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  <a:ea typeface="Arial"/>
              </a:rPr>
              <a:t>e i saperi scientific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È stata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rafforzata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  <a:ea typeface="Arial"/>
              </a:rPr>
              <a:t>l’area matematico-scienti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8"/>
          <p:cNvSpPr/>
          <p:nvPr/>
        </p:nvSpPr>
        <p:spPr>
          <a:xfrm>
            <a:off x="869040" y="70488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CasellaDiTesto 6"/>
          <p:cNvSpPr/>
          <p:nvPr/>
        </p:nvSpPr>
        <p:spPr>
          <a:xfrm>
            <a:off x="650880" y="334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scienti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290520" y="1208160"/>
          <a:ext cx="8586720" cy="496872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Arte e tecniche della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6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D11-C690-44F6-AFB3-95549B43AC41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3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l fine di assecondare le vocazioni degli studenti interessati ad acquisire competenze molto avanzate negli studi afferenti alla cultura scientifico-tecnologica, con particolare riferimento alle scienze matematiche, fisiche, chimiche e biologiche e all’informatica, le istituzioni scolastiche possono attivare, nell’ambito del liceo scientifico, una o più sezioni a opzione scientifico-tecnolog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57080" y="512640"/>
            <a:ext cx="6459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Liceo scienti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Times New Roman"/>
              </a:rPr>
              <a:t>Opzione scientifico-tecnol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4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CasellaDiTesto 6"/>
          <p:cNvSpPr/>
          <p:nvPr/>
        </p:nvSpPr>
        <p:spPr>
          <a:xfrm>
            <a:off x="650880" y="33480"/>
            <a:ext cx="68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opzione scientifico-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90520" y="1208160"/>
          <a:ext cx="8586720" cy="5516640"/>
        </p:xfrm>
        <a:graphic>
          <a:graphicData uri="http://schemas.openxmlformats.org/drawingml/2006/table">
            <a:tbl>
              <a:tblPr/>
              <a:tblGrid>
                <a:gridCol w="3849840"/>
                <a:gridCol w="519120"/>
                <a:gridCol w="928440"/>
                <a:gridCol w="968400"/>
                <a:gridCol w="630360"/>
                <a:gridCol w="630000"/>
                <a:gridCol w="10605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e insegnamenti obbligatori per tutti gli studenti 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Times New Roman"/>
                        </a:rPr>
                        <a:t>–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e 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sistemi automat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della Te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i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Tecnologia e diseg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51" name="Text Box 129"/>
          <p:cNvSpPr/>
          <p:nvPr/>
        </p:nvSpPr>
        <p:spPr>
          <a:xfrm>
            <a:off x="279360" y="6184800"/>
            <a:ext cx="8547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Liceo lingu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580B-B3B4-4B31-919E-ED056DDFC2B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5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CasellaDiTesto 6"/>
          <p:cNvSpPr/>
          <p:nvPr/>
        </p:nvSpPr>
        <p:spPr>
          <a:xfrm>
            <a:off x="536400" y="59544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725400" y="1793880"/>
            <a:ext cx="769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Approfondisce la cultura liceale dal punto di vista della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conoscenza coordinata di più sistemi linguistici e cultural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Liceo Linguistico vie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rafforzato l’insegnamento delle lingue strani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con particolare riferimento al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ef033b"/>
                </a:solidFill>
                <a:latin typeface="Arial"/>
              </a:rPr>
              <a:t>terza lin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CC58-C514-4543-9C01-9F9EB675A50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6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CasellaDiTesto 6"/>
          <p:cNvSpPr/>
          <p:nvPr/>
        </p:nvSpPr>
        <p:spPr>
          <a:xfrm>
            <a:off x="801720" y="641520"/>
            <a:ext cx="638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Il liceo linguistic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CLI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"/>
          <p:cNvSpPr/>
          <p:nvPr/>
        </p:nvSpPr>
        <p:spPr>
          <a:xfrm>
            <a:off x="725400" y="2090880"/>
            <a:ext cx="769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prim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l’insegnamento in lingua straniera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al </a:t>
            </a:r>
            <a:r>
              <a:rPr b="1" lang="it-IT" sz="2400" spc="-1" strike="noStrike">
                <a:solidFill>
                  <a:srgbClr val="ef033b"/>
                </a:solidFill>
                <a:latin typeface="Arial"/>
                <a:ea typeface="Arial"/>
              </a:rPr>
              <a:t>secondo anno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Arial"/>
              </a:rPr>
              <a:t>del secondo biennio è previsto inoltre l’insegnamento, in una diversa lingua straniera, di una disciplina non lingui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CasellaDiTesto 6"/>
          <p:cNvSpPr/>
          <p:nvPr/>
        </p:nvSpPr>
        <p:spPr>
          <a:xfrm>
            <a:off x="650880" y="19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ttangolo 5"/>
          <p:cNvSpPr/>
          <p:nvPr/>
        </p:nvSpPr>
        <p:spPr>
          <a:xfrm>
            <a:off x="927000" y="-3142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5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Rectangle 1"/>
          <p:cNvSpPr/>
          <p:nvPr/>
        </p:nvSpPr>
        <p:spPr>
          <a:xfrm>
            <a:off x="552600" y="537480"/>
            <a:ext cx="811368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Per effetto della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egge 40/2007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(Fioroni)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NON sono più contemplati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il Liceo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e il Liceo tecnologic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mentre è ricostituita l’Istruzione Tecnica e Profess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asellaDiTesto 6"/>
          <p:cNvSpPr/>
          <p:nvPr/>
        </p:nvSpPr>
        <p:spPr>
          <a:xfrm>
            <a:off x="650880" y="6048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– i riferimenti legisl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8E4-CDB3-41C7-B85D-CED619B72CB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egnaposto numero diapositiva 2"/>
          <p:cNvSpPr/>
          <p:nvPr/>
        </p:nvSpPr>
        <p:spPr>
          <a:xfrm>
            <a:off x="701028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651-3B4A-4E72-8223-402E648F17EC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7"/>
          <p:cNvGrpSpPr/>
          <p:nvPr/>
        </p:nvGrpSpPr>
        <p:grpSpPr>
          <a:xfrm>
            <a:off x="7705800" y="119160"/>
            <a:ext cx="1295280" cy="1129320"/>
            <a:chOff x="7705800" y="119160"/>
            <a:chExt cx="1295280" cy="1129320"/>
          </a:xfrm>
        </p:grpSpPr>
        <p:pic>
          <p:nvPicPr>
            <p:cNvPr id="77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191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9"/>
            <p:cNvSpPr/>
            <p:nvPr/>
          </p:nvSpPr>
          <p:spPr>
            <a:xfrm>
              <a:off x="7705800" y="9111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CasellaDiTesto 6"/>
          <p:cNvSpPr/>
          <p:nvPr/>
        </p:nvSpPr>
        <p:spPr>
          <a:xfrm>
            <a:off x="565200" y="398520"/>
            <a:ext cx="68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Piano degli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CasellaDiTesto 6"/>
          <p:cNvSpPr/>
          <p:nvPr/>
        </p:nvSpPr>
        <p:spPr>
          <a:xfrm>
            <a:off x="650880" y="475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-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Liceo lingu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0" y="590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00080" y="1185840"/>
          <a:ext cx="8701200" cy="5621400"/>
        </p:xfrm>
        <a:graphic>
          <a:graphicData uri="http://schemas.openxmlformats.org/drawingml/2006/table">
            <a:tbl>
              <a:tblPr/>
              <a:tblGrid>
                <a:gridCol w="3773520"/>
                <a:gridCol w="568080"/>
                <a:gridCol w="787680"/>
                <a:gridCol w="1333440"/>
                <a:gridCol w="620640"/>
                <a:gridCol w="620640"/>
                <a:gridCol w="9972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tività e insegnamenti obbligatori per tutti gli studenti – Orario annu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letteratura it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e cultura la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Lingua straniera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Geogra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Filosof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Matematica con 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naturali (Biologia, Chimica, Scienze della Ter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toria dell’a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Scienze motorie e spor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Religione cattolica o Attività altern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Totale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 aggiungono gli insegnamenti attivabili sulla base del Piano dell’Offerta Formativa nei limiti del contingente di organico del personale docente assegnato all’istituzione scolastica (cosiddetto “Repertorio” – vedi slide n. 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c4b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 algn="just">
                        <a:lnSpc>
                          <a:spcPct val="100000"/>
                        </a:lnSpc>
                        <a:buClr>
                          <a:srgbClr val="00007d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227A-9184-4A56-BD13-5BE899E7844A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78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CasellaDiTesto 6"/>
          <p:cNvSpPr/>
          <p:nvPr/>
        </p:nvSpPr>
        <p:spPr>
          <a:xfrm>
            <a:off x="665280" y="33480"/>
            <a:ext cx="77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egnaposto contenuto 2"/>
          <p:cNvSpPr/>
          <p:nvPr/>
        </p:nvSpPr>
        <p:spPr>
          <a:xfrm>
            <a:off x="360360" y="1860480"/>
            <a:ext cx="8450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 percorsi liceali di ogni tipo e indirizzo con le relative sperimentazioni confluiscono nei nuovi licei secondo quanto previsto dalla tabella contenuta nell’allegato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In rapporto alla specificità dei percorsi di origine sperimentale effettivamente attuati, le istituzioni scolastiche, statali e paritarie, possono presentare ai competenti Uffici scolastici regionali motivate proposte finalizzate alla individuazione di una confluenza diversa da quella indicata nella tab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757080" y="512640"/>
            <a:ext cx="6459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Il passaggio dal vecch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a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7085-096C-4B02-A5B3-4EB0AC61E5A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CasellaDiTesto 2"/>
          <p:cNvSpPr/>
          <p:nvPr/>
        </p:nvSpPr>
        <p:spPr>
          <a:xfrm>
            <a:off x="950760" y="29052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277920" y="741240"/>
          <a:ext cx="8577000" cy="6172200"/>
        </p:xfrm>
        <a:graphic>
          <a:graphicData uri="http://schemas.openxmlformats.org/drawingml/2006/table">
            <a:tbl>
              <a:tblPr/>
              <a:tblGrid>
                <a:gridCol w="5994360"/>
                <a:gridCol w="2582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6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a sezione (Accadem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sa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stamp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’alabas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e pietre 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last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corazione pittorica arredo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ittura e decorazione pittores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pittores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ultura e decorazione pla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apide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ilievo e cataloga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mosai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alabas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AZIOMNE SPERIMENTALE LEON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talogazione e conservazione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e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ultural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gurativi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eni culturali e della conserv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A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2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TI FIGURATIV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78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8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ttangolo 8"/>
          <p:cNvSpPr/>
          <p:nvPr/>
        </p:nvSpPr>
        <p:spPr>
          <a:xfrm>
            <a:off x="58824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3BCA-6248-44A2-9976-7DEACCAF117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CasellaDiTesto 2"/>
          <p:cNvSpPr/>
          <p:nvPr/>
        </p:nvSpPr>
        <p:spPr>
          <a:xfrm>
            <a:off x="950760" y="290520"/>
            <a:ext cx="60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324000" y="1295280"/>
          <a:ext cx="8496000" cy="361152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2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ARTIST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a sezione (Architettu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ator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redament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arre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Broc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izione e proget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ARCHITETTURA E AMBI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79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796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A021-EBCD-45FD-8B7E-9903087885B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324000" y="785880"/>
          <a:ext cx="8496000" cy="5927760"/>
        </p:xfrm>
        <a:graphic>
          <a:graphicData uri="http://schemas.openxmlformats.org/drawingml/2006/table">
            <a:tbl>
              <a:tblPr/>
              <a:tblGrid>
                <a:gridCol w="4930560"/>
                <a:gridCol w="356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7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ob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a ceram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Orefic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e orefice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i metall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legn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porcel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tallo e oreficeria arredo chi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tessuto, decorazione e arredo della chi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 merletto e del rica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industr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oda e costu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a cera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’oro e metalli prezios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i metal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cora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le opere ling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vet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e restauro del li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1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2" name="Picture 8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ttangolo 8"/>
          <p:cNvSpPr/>
          <p:nvPr/>
        </p:nvSpPr>
        <p:spPr>
          <a:xfrm>
            <a:off x="56448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D12-9DC9-41C2-95CF-AC8D217A326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324000" y="958680"/>
          <a:ext cx="8496000" cy="5195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LEONAR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chitettura e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vi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LICEO D’ARTE (BROCC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e comunicazione 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A SE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RCHITETTURA DESIGN AMBIEN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SEZIONE De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4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D’AR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zion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anima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enotec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pubblicit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e della grafica pubblicitaria e fotograf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otografia arti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OGETTO SPERIMENTALE MICHELANG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mmagine fotografica, filmica, televi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AUTONOMI COERENTI CON L’INDIRIZZ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Percors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LICEO ARTIS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0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ef033b"/>
                          </a:solidFill>
                          <a:latin typeface="Arial"/>
                        </a:rPr>
                        <a:t>AUDIOVISIVO MULTIMEDIALE SCENOGRA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0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09" name="Picture 8" descr="miur_colorato_trasparente_piccolo"/>
            <p:cNvPicPr/>
            <p:nvPr/>
          </p:nvPicPr>
          <p:blipFill>
            <a:blip r:embed="rId5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ttangolo 8"/>
          <p:cNvSpPr/>
          <p:nvPr/>
        </p:nvSpPr>
        <p:spPr>
          <a:xfrm>
            <a:off x="588240" y="349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F71-4348-4B6B-928D-3D8739C4BC8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asellaDiTesto 2"/>
          <p:cNvSpPr/>
          <p:nvPr/>
        </p:nvSpPr>
        <p:spPr>
          <a:xfrm>
            <a:off x="950760" y="2905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324000" y="958680"/>
          <a:ext cx="8496000" cy="3611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I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CLASS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CLAS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LINGUISTIC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E INDIRIZZI LINGUISTICI SPERIMENTAL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LINGUIS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E MUSICALE, COREUTICHE, MUSICALI E COREUTICHE, ARTISTICO MUSICALI AUTO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MUSICALE E CORE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CEO SCIENTIF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RELATIVE SPERIMENTAZIONI*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SCIENTIFIC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CORSI SPERIMENTALI QUINQUENNALI A INDIRIZZI MAGISTRALE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CEO DELLA SCIENZE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grpSp>
        <p:nvGrpSpPr>
          <p:cNvPr id="81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816" name="Picture 8" descr="miur_colorato_trasparente_piccolo"/>
            <p:cNvPicPr/>
            <p:nvPr/>
          </p:nvPicPr>
          <p:blipFill>
            <a:blip r:embed="rId6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ttangolo 8"/>
          <p:cNvSpPr/>
          <p:nvPr/>
        </p:nvSpPr>
        <p:spPr>
          <a:xfrm>
            <a:off x="243000" y="5254560"/>
            <a:ext cx="8646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 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Gli indirizzi sperimentali che non prevedono lo studio del latino confluiscono, di norma, nella opzione scientifico-tecnolog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**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Gli indirizzi sperimentali che non prevedono lo studio del latino confluiscono, di norma, nella opzione economico-soci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ttangolo 8"/>
          <p:cNvSpPr/>
          <p:nvPr/>
        </p:nvSpPr>
        <p:spPr>
          <a:xfrm>
            <a:off x="461160" y="4608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3590-CFED-4500-8CF0-5924EE790457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ttangolo 9"/>
          <p:cNvSpPr/>
          <p:nvPr/>
        </p:nvSpPr>
        <p:spPr>
          <a:xfrm>
            <a:off x="357120" y="1071720"/>
            <a:ext cx="82155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 livelli di responsabilità  per prepa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’a.s. 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2010-20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attivare gli indiriz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indirizzi è possibile attivare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ttangolo 7"/>
          <p:cNvSpPr/>
          <p:nvPr/>
        </p:nvSpPr>
        <p:spPr>
          <a:xfrm>
            <a:off x="595440" y="698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F1B-5BB3-4496-91EA-2C70E4154DA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6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ttangolo 9"/>
          <p:cNvSpPr/>
          <p:nvPr/>
        </p:nvSpPr>
        <p:spPr>
          <a:xfrm>
            <a:off x="428760" y="2428920"/>
            <a:ext cx="82864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Regione attribuisce alla Provincia i compiti e le funzioni concernenti l’istituzione, l’aggregazione, la fusione e la soppressione delle s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’Ufficio Scolastico regionale promuove la ricognizione delle esigenze formative e lo sviluppo della relativa offerta su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Giunta regionale delibera entro il 31 dicembre 2009 il piano di dimensionamento della rete scolastica e la programmazione dell’offerta form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45720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DOVE</a:t>
            </a:r>
            <a:r>
              <a:rPr b="1" lang="it-IT" sz="3200" spc="-1" strike="noStrike">
                <a:solidFill>
                  <a:srgbClr val="00005e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attivare gli indirizzi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dimensionamento della rete scolastica e programmazione dell’offerta formativa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ttangolo 9"/>
          <p:cNvSpPr/>
          <p:nvPr/>
        </p:nvSpPr>
        <p:spPr>
          <a:xfrm>
            <a:off x="595440" y="5724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3F0-6259-4ED0-A6FA-CAB65FBFFB3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7843680" y="-7920"/>
            <a:ext cx="906480" cy="891000"/>
            <a:chOff x="7843680" y="-7920"/>
            <a:chExt cx="906480" cy="891000"/>
          </a:xfrm>
        </p:grpSpPr>
        <p:pic>
          <p:nvPicPr>
            <p:cNvPr id="47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94520" y="-7920"/>
              <a:ext cx="533160" cy="5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9"/>
            <p:cNvSpPr/>
            <p:nvPr/>
          </p:nvSpPr>
          <p:spPr>
            <a:xfrm>
              <a:off x="7843680" y="54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2"/>
          <p:cNvSpPr/>
          <p:nvPr/>
        </p:nvSpPr>
        <p:spPr>
          <a:xfrm>
            <a:off x="45720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ttangolo 7"/>
          <p:cNvSpPr/>
          <p:nvPr/>
        </p:nvSpPr>
        <p:spPr>
          <a:xfrm>
            <a:off x="571680" y="571680"/>
            <a:ext cx="72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QUAL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indirizzi è possibile attivare </a:t>
            </a:r>
            <a:br>
              <a:rPr sz="2800"/>
            </a:b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(ordinamenti scolast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42920" y="2000160"/>
            <a:ext cx="8472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costruisce la sua identità, valorizzando le professionalità presenti in organico in Istit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La scuola legge la tabella di confluenza allegata allo schema di regolamento e conferma o modifica la proposta di offerta formativa della scuola alla luce dei piani di studio e dei quadri orario previsti dal regol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ttangolo 10"/>
          <p:cNvSpPr/>
          <p:nvPr/>
        </p:nvSpPr>
        <p:spPr>
          <a:xfrm>
            <a:off x="588240" y="8100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Calibri"/>
              </a:rPr>
              <a:t>I nuovi Lic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52A7-7E23-4F6E-B89D-1695A14195D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  <a:ea typeface="Times New Roman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48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250920" y="1700280"/>
          <a:ext cx="8642160" cy="332244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a progettazione formativa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mposti da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,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, delle università, delle istituzioni di alta formazione artistica, musicale e coreutica. H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l’ utilizzazione degli spazi 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Rectangle 21"/>
          <p:cNvSpPr/>
          <p:nvPr/>
        </p:nvSpPr>
        <p:spPr>
          <a:xfrm>
            <a:off x="684360" y="10944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 nuovi Lic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2:10Z</dcterms:created>
  <dc:creator>win</dc:creator>
  <dc:description/>
  <dc:language>en-US</dc:language>
  <cp:lastModifiedBy>Elisabetta</cp:lastModifiedBy>
  <dcterms:modified xsi:type="dcterms:W3CDTF">2009-11-10T11:53:59Z</dcterms:modified>
  <cp:revision>228</cp:revision>
  <dc:subject/>
  <dc:title>Diapositiva 1</dc:title>
</cp:coreProperties>
</file>