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blipFill rotWithShape="0">
            <a:blip r:embed="rId2">
              <a:alphaModFix amt="3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33360" y="1440"/>
            <a:ext cx="6191280" cy="87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44° CIRCOLO DIDAT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GIUSEPPE LOMBARDO RADICE”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APO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roadway"/>
              </a:rPr>
              <a:t>LA SCUOLA SIAMO N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roadway"/>
              </a:rPr>
              <a:t>UNA SETTIMANA PER RACCONT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roadway"/>
              </a:rPr>
              <a:t>COME SI LAVORA NELLE SCUOLE ITALI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Lunedì 21 magg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ustralian Sunrise"/>
              </a:rPr>
              <a:t>ESIBIZIONE ALUNNI PROGETTO MUS-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Villa Comunale - Cassa Armo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Mercoledì 23 magg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Bradley Hand ITC"/>
              </a:rPr>
              <a:t>FESTA CONCE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Bradley Hand ITC"/>
              </a:rPr>
              <a:t>ESIBIZIONE ALUNNI PROGETTO MUS-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(nei locali della scuola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Giovedì 24 maggi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Handwriting"/>
              </a:rPr>
              <a:t>Progetto  - Tutti in scena -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Lucida Handwriting"/>
              </a:rPr>
              <a:t>E TUTTO COMINCIÒ COSÌ”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Rappresentazione Teatrale Classi Terze Sez. A -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Sabato 26 MAGG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Lucida Handwriting"/>
              </a:rPr>
              <a:t>MOSTRA MERCATO SCUOLA DELL’INFANZ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Mercoledì 30 magg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Bradley Hand ITC"/>
              </a:rPr>
              <a:t>AUDITORIUM RA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Bradley Hand ITC"/>
              </a:rPr>
              <a:t>ESIBIZIONE ALUNNI PROGETTO MUS-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Giovedì 31 magg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Progetto “RACKET E USURA ”  Incontro con i genitori - ore 16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Relatore Prof.ssa ROSARIA GIAMPETRAGL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Docente di Diritto Privato  Università Parthenope Napo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Footlight MT Light"/>
              </a:rPr>
              <a:t>Presentazione Progetto “SCUOLE APERTE”  ore 17.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Footlight MT Light"/>
              </a:rPr>
              <a:t>I CANTIERI DELLA CULTURA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ESPOSIZIONE LAVORI PROGETTO CERAMICA CLASSI PRIME E QUI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ESPOSIZIONE LAVORI PROGETTO ASTRONOMIA CLASSI QUA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D. S. Prof. Giuseppe Franz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09:52:04Z</dcterms:created>
  <dc:creator>Michea</dc:creator>
  <dc:description/>
  <dc:language>en-US</dc:language>
  <cp:lastModifiedBy> </cp:lastModifiedBy>
  <dcterms:modified xsi:type="dcterms:W3CDTF">2007-05-22T13:28:49Z</dcterms:modified>
  <cp:revision>4</cp:revision>
  <dc:subject/>
  <dc:title>Diapositiva 1</dc:title>
</cp:coreProperties>
</file>